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dt" idx="28"/>
          </p:nvPr>
        </p:nvSpPr>
        <p:spPr>
          <a:xfrm>
            <a:off x="3806640" y="-36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E790-F866-4417-80A6-2234FCCC1A9B}" type="datetime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Img"/>
          </p:nvPr>
        </p:nvSpPr>
        <p:spPr>
          <a:xfrm>
            <a:off x="896400" y="741240"/>
            <a:ext cx="492444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29"/>
          </p:nvPr>
        </p:nvSpPr>
        <p:spPr>
          <a:xfrm>
            <a:off x="-360" y="9359640"/>
            <a:ext cx="291132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0"/>
          </p:nvPr>
        </p:nvSpPr>
        <p:spPr>
          <a:xfrm>
            <a:off x="3806640" y="9359640"/>
            <a:ext cx="290988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BDA3-E02F-48CB-A870-7CDE9073DE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0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C6E-AD13-4B25-A3C7-A0BAFD1EAB81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0B4-D579-4ABF-BE9F-175034C713A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897-985B-4604-9872-E98F7EFFBCC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1400" y="4677840"/>
            <a:ext cx="537552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9ED4-FC36-4396-B784-325CF9A3AB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4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C78-7D36-4E06-A9DB-8CCDD070C98A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24440" cy="3694320"/>
          </a:xfrm>
          <a:prstGeom prst="rect">
            <a:avLst/>
          </a:prstGeom>
          <a:ln w="0">
            <a:noFill/>
          </a:ln>
        </p:spPr>
      </p:sp>
      <p:sp>
        <p:nvSpPr>
          <p:cNvPr id="487" name="Slide Number Placeholder 3"/>
          <p:cNvSpPr/>
          <p:nvPr/>
        </p:nvSpPr>
        <p:spPr>
          <a:xfrm>
            <a:off x="3807000" y="9360000"/>
            <a:ext cx="2909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D1A-5C5D-4110-9B91-1C7BA24FF184}" type="slidenum"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F08-3448-4CAB-979B-BEE7A908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9C70-CC65-4583-856E-8AA347D9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88A309-4F01-426F-8D63-A0603A4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35B0B-71A9-4B0B-8AAB-BE873425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7F298-07F6-4D37-B5FB-BBC6DF58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F4A7A-ECD6-4666-92B0-ABB0548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75C9B-7794-45E5-BFAA-D6B29FA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C546A-2C5C-4B47-8E9D-DA751CB1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92742-98A9-4F44-8115-CB28EB6C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52125-89F6-4F85-B6A2-7A2F0C90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EABC6-7101-4885-B325-BD0C1A91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17885-4CA1-4274-9039-3A3A36FF95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4AB-5CDC-4BFB-B187-16EEF062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D6CC8-7362-4328-8FAC-6A3CB001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F3C9E-6A3E-45A0-955D-58F584E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AA5F1-2B89-45DE-9BAC-8AC8F907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0C671-6C3D-4C39-8667-DD9F8038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5914E-0EB2-4DB1-B296-82C38CEC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5F128-1937-48BB-830F-8BFAD693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4D1FE-A6D6-4E73-9044-DB2C349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CC39C-6B8F-45E0-AB04-FC30D35A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8353D-B322-4872-AD24-FD169E0C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B2D5A-164E-4704-9366-39D905F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DCF-D76F-4E2B-B804-BBD58069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025A9-306D-4922-AD13-311C6D811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1576-4610-4D17-BF2D-283C3DED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D383-7894-4E52-B161-0E77D60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6B74-A741-443D-AC9B-24B634D7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20B-09D2-4006-944D-B15125A1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22F5-7CD5-4364-B3AD-74EDE973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0D15-F87E-4313-BFA5-32AC0E09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D67A-0359-4DCD-BC7B-8182D8E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FD6-531F-4A76-9B97-443A801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58C1-5807-4306-BE15-D26BEEA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C44D-111E-4685-9F75-823D93A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78A7-FF05-4749-A5F3-EDF2856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943-7AD2-4CB5-A436-EED75AB3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DAF3-6592-4DA0-A89A-4A157544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88A9E1-E97D-4AB9-A8E3-FAA071A87D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96A35-1D73-4A48-938D-27BFB1B1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DBB4F-8E5A-4A76-9C3E-B2F61999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FE63F-B968-426C-8F9A-B635BE6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99B84-9E8A-4199-AEAD-07B0FDF1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285-3D43-4152-9238-9EBA46B1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963FD-E6B9-4DCD-AA52-8621A7F3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B7330-4BB1-4D92-808D-64126162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68FDA-B582-4DA2-A999-E8E781D7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50A9D-346D-443B-B932-675227B3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96B32-4989-417A-BE9B-B75A0325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0AF4E-038C-41ED-AC7D-D7D3181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22226-796E-432F-9E2C-457DC5503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920178-0D84-4D12-AFF5-5A2D2119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66D3B-E264-43D4-8CF4-960A0305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9F473B-C520-4B49-8C83-47514EB5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1D1-7532-4C51-884B-F2A03BB9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6C121-92D5-4790-8004-F96C8DA3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F41E9-846B-4181-A5E2-053D7C72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E96250-E4D4-41C0-8236-D3CA4A8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57F82-45CC-4E4D-ACEB-F2DF8CD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E11C1-9E22-461F-8E4F-243BB1B1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B6C39-2E84-4DFB-A421-7DC023D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3AAF8-E491-4C8D-95AE-1FEAEC3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982856-85BB-474E-B389-A2472D0A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B4FE0-CC30-4712-8F7D-3FABED4A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4381A-BE6A-4707-951D-38FCA67B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21B-9D74-4BB5-9A78-354CDAF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4899-C035-48A9-8AA3-AA55DB6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A293A-D80B-486B-BF77-7845B39F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84D6AD-96AD-47D3-94D2-70CCED8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7C7AE-7F07-4DCA-8139-792684C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C8511-804E-4874-A500-AA0C0666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ACEF5-73BD-47A4-990A-7AE7F2AC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06F8A-8C87-44A0-B589-F81050D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4C395-A226-4647-AC35-A632D00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286D-CA1F-46BB-A6D9-1D98D1EE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7FAA8-AFC2-41D6-B35A-ADD94E1A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F43-1BFF-474F-B7CA-CAC208A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51BA7-E4EA-4BD1-AD8C-C5E14EF7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57B184-4C50-41C9-86F9-175507D7A5F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A0612A-8A45-4A50-82DF-E68D8A21A4F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C4D788-ADD1-432A-B8CB-4FF19A9838D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2F13EE-6928-4F8B-A418-C135F6D81A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965C9-F4C2-4D2B-995E-3F87BB30100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F479D-BCFD-455C-B9E0-6DB0AF0154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296EC-24E4-4D1C-9BC1-F71D24F896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8D7B2-7FD1-48CB-A327-3479E9B0FB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9F0E0F-5D5E-491B-990F-78411CA29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6E-84C0-4536-A916-FF25E826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252EDD-5B65-49C9-9A5D-9E669E61DF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FF772-8654-42E8-B4F5-FAD9D3C49E3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D99E0F-61F8-4309-A784-7AB58AE1E1E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AA10F2-7502-486C-AFAC-AC0F5BE5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D133AF-F715-4C36-8492-22942F62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A1E4C-5208-46CD-BB53-8B375846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5D9BBE-3981-4BC4-9C82-B7CEEF2C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A7EC6-0BEB-4CF1-8B89-D32D2102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AD5BA-CB7D-40B0-8766-EA42DE92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ECAB28-566A-46A3-AA26-3580B14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91B-E6A7-4F1D-8D98-8E0EFCB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E96EB4-8282-4B3A-93A3-3F6C6906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5C990-2587-4FF7-B4EB-10FDC2AA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D6AC13-9CF7-4FD0-A51C-1C25000E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E4359B-0B62-4DAD-B174-D6DC14FE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747CE4-1C02-4DB3-91BF-3BAD1C0B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B0831-622F-4F09-AB44-EA6BD578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B7A923-C87D-440C-BDA1-89CA60D7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C9FCC4-FF7C-4D2E-A4AB-A11EA2D0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719919-E89D-4C3D-9890-45BA635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2A847A-EEE3-4E2A-A313-B5BD82E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AF9-F3B9-4D66-9441-01A16012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18DBA-BBB7-45CD-951F-ED40640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FE3F37-E672-42F4-8FBF-B00511A0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2F3008-8925-493D-95F5-057365FB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5BD99-15F5-41CE-9695-B1826BE9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E664DB-2448-4EF4-9373-0035513A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B98CA8-64F1-44D9-8D8E-26C4C9B5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53C5BF-C032-48EC-A8CD-5EA1F855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357C3-B6A0-45FF-8134-71356C4B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F9A2F-88B7-44CC-BA05-07C6D6E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F731E-9A45-4B5F-A19D-70EFF21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F14-3A5A-49BF-99D2-DC91114953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erasmus_mundus_ppt_cover.jpg"/>
          <p:cNvPicPr/>
          <p:nvPr/>
        </p:nvPicPr>
        <p:blipFill>
          <a:blip r:embed="rId2"/>
          <a:stretch/>
        </p:blipFill>
        <p:spPr>
          <a:xfrm>
            <a:off x="-108000" y="0"/>
            <a:ext cx="943308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D8E5-61BD-4254-A628-CC565909A8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2D6A-9F74-4C68-8672-D351A358F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erasmus_mundus_ppt_inner_pages.jpg"/>
          <p:cNvPicPr/>
          <p:nvPr/>
        </p:nvPicPr>
        <p:blipFill>
          <a:blip r:embed="rId2"/>
          <a:stretch/>
        </p:blipFill>
        <p:spPr>
          <a:xfrm>
            <a:off x="-144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284720" y="6308640"/>
            <a:ext cx="647640" cy="53820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03E0-67E9-4EB5-B0EB-2DBE5FECF5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B26D-46DE-4CE7-B9FD-5DA857D9C8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4410-5ED5-469B-BF89-F7065DB137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Education </a:t>
            </a:r>
            <a:br>
              <a:rPr sz="1400"/>
            </a:br>
            <a:r>
              <a:rPr b="0" lang="fr-BE" sz="1400" spc="-1" strike="noStrike">
                <a:solidFill>
                  <a:srgbClr val="000000"/>
                </a:solidFill>
                <a:latin typeface="Verdana"/>
              </a:rPr>
              <a:t>and Cul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CCAD-6B8E-4244-8AB0-4D772D275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8225-F8A6-4772-BD75-122A6D705460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5FE6-68EF-4671-AE8F-281870730F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8E06-5961-40D1-A4B8-456D4ADEEB35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B76B-D1AE-488A-B0A4-E1FC9D0925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95A2-0FCA-435D-907D-B46103F115F7}" type="datetime">
              <a:rPr b="0" lang="en-GB" sz="14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CAC0-837B-4170-A5BF-084E2C3FC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40360" y="1268280"/>
            <a:ext cx="453528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d624"/>
                </a:solidFill>
                <a:latin typeface="Verdana"/>
              </a:rPr>
              <a:t>Erasmus+</a:t>
            </a:r>
            <a:endParaRPr b="1" lang="en-US" sz="4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4560" y="3809880"/>
            <a:ext cx="4419720" cy="22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Verdana"/>
              </a:rPr>
              <a:t>Mobilité des crédits et 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  <a:p>
            <a:pPr marL="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0" i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4284720" y="6237360"/>
            <a:ext cx="647640" cy="647640"/>
          </a:xfrm>
          <a:prstGeom prst="rect">
            <a:avLst/>
          </a:prstGeom>
          <a:solidFill>
            <a:srgbClr val="009ec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fr-BE" sz="800" spc="-1" strike="noStrike">
                <a:solidFill>
                  <a:srgbClr val="ffffff"/>
                </a:solidFill>
                <a:latin typeface="Verdana"/>
              </a:rPr>
              <a:t>Erasmus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Content Placeholder 3" descr=""/>
          <p:cNvPicPr/>
          <p:nvPr/>
        </p:nvPicPr>
        <p:blipFill>
          <a:blip r:embed="rId1"/>
          <a:stretch/>
        </p:blipFill>
        <p:spPr>
          <a:xfrm>
            <a:off x="4599000" y="3068640"/>
            <a:ext cx="45813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70056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 flipH="1" rot="10396800">
            <a:off x="137880" y="366840"/>
            <a:ext cx="6165720" cy="5680080"/>
          </a:xfrm>
          <a:prstGeom prst="rect">
            <a:avLst/>
          </a:prstGeom>
          <a:ln w="0">
            <a:noFill/>
          </a:ln>
        </p:spPr>
      </p:pic>
      <p:sp>
        <p:nvSpPr>
          <p:cNvPr id="454" name="ZoneTexte 60"/>
          <p:cNvSpPr/>
          <p:nvPr/>
        </p:nvSpPr>
        <p:spPr>
          <a:xfrm>
            <a:off x="900000" y="828720"/>
            <a:ext cx="232092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55640" y="1700280"/>
          <a:ext cx="5194440" cy="3767040"/>
        </p:xfrm>
        <a:graphic>
          <a:graphicData uri="http://schemas.openxmlformats.org/drawingml/2006/table">
            <a:tbl>
              <a:tblPr/>
              <a:tblGrid>
                <a:gridCol w="2664000"/>
                <a:gridCol w="2530440"/>
              </a:tblGrid>
              <a:tr h="1100160">
                <a:tc>
                  <a:txBody>
                    <a:bodyPr lIns="54000" rIns="5400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Travel distances (k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€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/ particip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44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 - 4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00 - 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2000 - 2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3000 - 3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4000 - 7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2520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2520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460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≥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2520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2520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56" name="Rectangle 1"/>
          <p:cNvSpPr/>
          <p:nvPr/>
        </p:nvSpPr>
        <p:spPr>
          <a:xfrm>
            <a:off x="4938840" y="3163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3" descr=""/>
          <p:cNvPicPr/>
          <p:nvPr/>
        </p:nvPicPr>
        <p:blipFill>
          <a:blip r:embed="rId1"/>
          <a:srcRect l="3979" t="0" r="0" b="0"/>
          <a:stretch/>
        </p:blipFill>
        <p:spPr>
          <a:xfrm>
            <a:off x="-181080" y="-100080"/>
            <a:ext cx="10022040" cy="695808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2560" y="4724280"/>
            <a:ext cx="403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Activité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Jean Monnet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4ED2-094C-4660-87A5-239ACC0901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220968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f5494"/>
                </a:solidFill>
                <a:latin typeface="Verdana"/>
              </a:rPr>
              <a:t>Objectif: Accroître la connaissance sur l’intégration européenne en soutenant l’enseignement, la recherche et le débat sur l’UE.</a:t>
            </a:r>
            <a:endParaRPr b="0" i="1" lang="en-US" sz="23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En particulier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Doter les étudiants et les jeunes professionnels d'une connaissance de l'U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Stimuler l'enseignement et la recherche sur l'Union européenne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Encourager le dialogue entre l'Union européenne et le monde de l'enseignement supérieur</a:t>
            </a:r>
            <a:endParaRPr b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D81D-1C72-4733-9715-1F77112E63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49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Jean Monnet  a worldwide Network 1989 - 2014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64" name="Picture 8" descr="ajmworlwide5.JPG"/>
          <p:cNvPicPr/>
          <p:nvPr/>
        </p:nvPicPr>
        <p:blipFill>
          <a:blip r:embed="rId1"/>
          <a:stretch/>
        </p:blipFill>
        <p:spPr>
          <a:xfrm>
            <a:off x="755640" y="2182680"/>
            <a:ext cx="7488360" cy="33116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395280" y="537372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78 countrie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throughout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more than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800 universitie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Verdana"/>
              </a:rPr>
              <a:t>offering Jean Monnet courses as part of their curri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4716360" y="5445000"/>
            <a:ext cx="38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Over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4,200 projects </a:t>
            </a: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in the field of European integration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</a:rPr>
              <a:t>more than </a:t>
            </a: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1,700 prof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f5494"/>
                </a:solidFill>
                <a:latin typeface="Verdana"/>
              </a:rPr>
              <a:t>265,000 students every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2565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3 types de projet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nseignement et recherche (modules, chaises, des centres d'excellence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Débat politique dans le monde académique (réseaux, projet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outien aux activités des institutions ou des associ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474A-62E1-4194-8A42-D0536B49C8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Jean Monnet: comment postuler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Appel à propositions annuel publié par l'U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f5494"/>
                </a:solidFill>
                <a:latin typeface="Verdana"/>
              </a:rPr>
              <a:t>Les candidatures peuvent venir d'un établissement dans n'importe quels pays du monde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Postuler directement à EACEA: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f5494"/>
                </a:solidFill>
                <a:latin typeface="Verdana"/>
              </a:rPr>
              <a:t>http://eacea.ec.europa.eu/erasmus-plus/funding_en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B76B-ED80-44E0-8B4F-2F3A214312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Appel à propositions - Délai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8000" y="22096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ttp://ec.europa.eu/programmes/erasmus-plus/calls/index_fr.htm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042920" y="3068640"/>
          <a:ext cx="6837480" cy="2614680"/>
        </p:xfrm>
        <a:graphic>
          <a:graphicData uri="http://schemas.openxmlformats.org/drawingml/2006/table">
            <a:tbl>
              <a:tblPr/>
              <a:tblGrid>
                <a:gridCol w="3419640"/>
                <a:gridCol w="3417840"/>
              </a:tblGrid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0070c0"/>
                          </a:solidFill>
                          <a:latin typeface="Verdana Bold"/>
                          <a:ea typeface="Arial"/>
                        </a:rPr>
                        <a:t>Délai de soumission des proj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Renforcement des capacit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10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Jean M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26 février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asters con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1c3c90"/>
                          </a:solidFill>
                          <a:latin typeface="Verdana Bold"/>
                          <a:ea typeface="Arial"/>
                        </a:rPr>
                        <a:t>Mobilité de créd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Verdana Bold"/>
                          <a:ea typeface="Arial"/>
                        </a:rPr>
                        <a:t>4 mars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5435640" y="4797360"/>
            <a:ext cx="3313080" cy="19274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10666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lus d' information: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53964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Verdana"/>
              </a:rPr>
              <a:t>http://ec.europa.eu/programmes/erasmus-plus/index_fr.htm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Information pour Erasmus+ possibilités de finance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Verdana"/>
              </a:rPr>
              <a:t>http://eacea.ec.europa.eu/erasmus-plus/funding_e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B27-C592-4F28-AD33-C483806494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thankyou3.jpg"/>
          <p:cNvPicPr/>
          <p:nvPr/>
        </p:nvPicPr>
        <p:blipFill>
          <a:blip r:embed="rId1"/>
          <a:stretch/>
        </p:blipFill>
        <p:spPr>
          <a:xfrm>
            <a:off x="392040" y="1268280"/>
            <a:ext cx="81709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507C-8B0C-4B69-A12B-AA3E605D84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49636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 Actions principales dans la composante internationale Erasmus+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25905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Masters conjoints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f5494"/>
                </a:solidFill>
                <a:latin typeface="Verdana"/>
              </a:rPr>
              <a:t>Renforcement des capacités pour l'enseignement supérieur (ex-Tempus)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27000" indent="-27000">
              <a:spcBef>
                <a:spcPts val="799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f5494"/>
                </a:solidFill>
                <a:latin typeface="Verdana"/>
              </a:rPr>
              <a:t>Activités Jean Monne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3EA-9B9A-4CCE-8A3B-F526EFAC74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96360" cy="6864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7280" y="2852280"/>
            <a:ext cx="44654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f5494"/>
                </a:solidFill>
                <a:latin typeface="Verdana"/>
              </a:rPr>
              <a:t>Mobilité de crédits</a:t>
            </a:r>
            <a:br>
              <a:rPr sz="40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CC2A-7873-44A0-A28C-424D2F26D8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 en bref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23623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Des études à court terme à l'étranger qui comptent pour la reconnaissance d'un diplôme dans le pays d'origine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Ouverture internationale d'Erasmu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5494"/>
                </a:solidFill>
                <a:latin typeface="Verdana"/>
              </a:rPr>
              <a:t>Mobilité pour les niveaux "licence" (Bachelor), Master et doctorat - et pour le personn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86EC-80FB-4429-9F5F-F41FFD073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36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50560" y="2286000"/>
            <a:ext cx="84358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f5494"/>
                </a:solidFill>
                <a:latin typeface="Verdana"/>
              </a:rPr>
              <a:t>Gérée par les agences nationales Erasmus+ dans les pays membres du programme 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f5494"/>
                </a:solidFill>
                <a:latin typeface="Verdana"/>
              </a:rPr>
              <a:t>Chaque établissement d'enseignement supérieur (EES) met en place un/des accord (s) inter-institutionnel(s)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spcBef>
                <a:spcPts val="6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f5494"/>
                </a:solidFill>
                <a:latin typeface="Verdana"/>
              </a:rPr>
              <a:t>L'accord définit le cadre pour l'envoi et l'accueil des étudiants et du personnel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2E0-BDF1-4928-AEBC-3A7C4C9C35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36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comment ça march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50560" y="2362320"/>
            <a:ext cx="843588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Etudiants: 3 à 12 moi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Personnel: 5 jours à 2 moi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Tous les niveaux (Licence, Doctorat)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f5494"/>
                </a:solidFill>
                <a:latin typeface="Verdana"/>
              </a:rPr>
              <a:t>Toutes les disciplines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AE2B-A6B8-43E7-BCF7-368D684AF8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371240"/>
            <a:ext cx="822960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obilité de crédits: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mment postuler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2286000"/>
            <a:ext cx="82296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Accords de mobilité internationale entre les pays membres du programme et les pays partenaires seront sélectionnés en 2015 (Appel à propositions lancé début octobre 2014)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Uniquement les établissements d'enseignement supérieur (EES) des pays membres du programme peuvent postuler via leur agence nationale pour gérer les accords de mobilité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f5494"/>
                </a:solidFill>
                <a:latin typeface="Verdana"/>
              </a:rPr>
              <a:t>Les établissements d'enseignement supérieur des pays partenaires devraient renforcer leurs liens avec les établissements d'enseignement supérieur des pays membres du programme pour avoir accès à ce financement</a:t>
            </a:r>
            <a:endParaRPr b="0" i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7DD-B5AF-4E83-9B62-AD7E7394A1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7005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 flipH="1" rot="10396800">
            <a:off x="134640" y="-140760"/>
            <a:ext cx="3925800" cy="703872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395280" y="1881360"/>
            <a:ext cx="3313080" cy="39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Aft>
                <a:spcPts val="2999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Vers les pays program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850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800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2999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Vers les pays partenai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€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60"/>
          <p:cNvSpPr/>
          <p:nvPr/>
        </p:nvSpPr>
        <p:spPr>
          <a:xfrm>
            <a:off x="372960" y="549360"/>
            <a:ext cx="3095640" cy="1068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Student Un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  <a:ea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able 1" descr=""/>
          <p:cNvPicPr/>
          <p:nvPr/>
        </p:nvPicPr>
        <p:blipFill>
          <a:blip r:embed="rId3"/>
          <a:stretch/>
        </p:blipFill>
        <p:spPr>
          <a:xfrm>
            <a:off x="3852720" y="1170000"/>
            <a:ext cx="525492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"/>
          <p:cNvPicPr/>
          <p:nvPr/>
        </p:nvPicPr>
        <p:blipFill>
          <a:blip r:embed="rId2"/>
          <a:stretch/>
        </p:blipFill>
        <p:spPr>
          <a:xfrm rot="403200">
            <a:off x="557280" y="412920"/>
            <a:ext cx="6680160" cy="6345000"/>
          </a:xfrm>
          <a:prstGeom prst="rect">
            <a:avLst/>
          </a:prstGeom>
          <a:ln w="0">
            <a:noFill/>
          </a:ln>
        </p:spPr>
      </p:pic>
      <p:sp>
        <p:nvSpPr>
          <p:cNvPr id="450" name="ZoneTexte 60"/>
          <p:cNvSpPr/>
          <p:nvPr/>
        </p:nvSpPr>
        <p:spPr>
          <a:xfrm>
            <a:off x="1679400" y="981000"/>
            <a:ext cx="302436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Staff Uni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332000" y="1700280"/>
          <a:ext cx="5040360" cy="4259160"/>
        </p:xfrm>
        <a:graphic>
          <a:graphicData uri="http://schemas.openxmlformats.org/drawingml/2006/table">
            <a:tbl>
              <a:tblPr/>
              <a:tblGrid>
                <a:gridCol w="3349440"/>
                <a:gridCol w="1690920"/>
              </a:tblGrid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Host 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Verdana"/>
                        </a:rPr>
                        <a:t>Per Di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K, IE, NL, SE, U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46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BE, BG, CZ, EL, FR, IT, CY, LU, HU, AT, PL, RO, FI, IS, LI, NO, T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DE, ES, LV, MT, PO, SK, FYRO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E, HR, LT, 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Partner Countr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05:48Z</dcterms:created>
  <dc:creator>lenain</dc:creator>
  <dc:description/>
  <dc:language>en-US</dc:language>
  <cp:lastModifiedBy>Eva Valle</cp:lastModifiedBy>
  <cp:lastPrinted>2014-04-23T13:58:44Z</cp:lastPrinted>
  <dcterms:modified xsi:type="dcterms:W3CDTF">2014-12-02T21:41:45Z</dcterms:modified>
  <cp:revision>380</cp:revision>
  <dc:subject/>
  <dc:title>Slide 1</dc:title>
</cp:coreProperties>
</file>