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5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.jpeg" ContentType="image/jpeg"/>
  <Override PartName="/ppt/media/image7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0" y="0"/>
            <a:ext cx="67176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dt" idx="28"/>
          </p:nvPr>
        </p:nvSpPr>
        <p:spPr>
          <a:xfrm>
            <a:off x="3806640" y="-360"/>
            <a:ext cx="290988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B78E-88CB-458A-B545-9F2062AE9F58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sldImg"/>
          </p:nvPr>
        </p:nvSpPr>
        <p:spPr>
          <a:xfrm>
            <a:off x="896400" y="741240"/>
            <a:ext cx="4924440" cy="369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body"/>
          </p:nvPr>
        </p:nvSpPr>
        <p:spPr>
          <a:xfrm>
            <a:off x="671400" y="46778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ftr" idx="29"/>
          </p:nvPr>
        </p:nvSpPr>
        <p:spPr>
          <a:xfrm>
            <a:off x="-360" y="935964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 type="sldNum" idx="30"/>
          </p:nvPr>
        </p:nvSpPr>
        <p:spPr>
          <a:xfrm>
            <a:off x="3806640" y="9359640"/>
            <a:ext cx="290988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FBFE-F54A-43D0-8163-4BB15AC7BA0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896760" y="741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90" name="Slide Number Placeholder 3"/>
          <p:cNvSpPr/>
          <p:nvPr/>
        </p:nvSpPr>
        <p:spPr>
          <a:xfrm>
            <a:off x="3807000" y="9360000"/>
            <a:ext cx="2909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8F52-BF96-4439-989A-5D34F29F8F6A}" type="slidenum">
              <a:rPr b="0" lang="en-GB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896760" y="741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71400" y="46778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07000" y="9360000"/>
            <a:ext cx="2909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D19C-2953-45CC-836A-D169E31371EC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896760" y="741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71400" y="46778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07000" y="9360000"/>
            <a:ext cx="2909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0F29-0BD8-470C-920B-C71403B5034D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896760" y="741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71400" y="46778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07000" y="9360000"/>
            <a:ext cx="2909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E036-B1A6-4A19-B2B7-E3601A977C5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896760" y="741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84" name="Slide Number Placeholder 3"/>
          <p:cNvSpPr/>
          <p:nvPr/>
        </p:nvSpPr>
        <p:spPr>
          <a:xfrm>
            <a:off x="3807000" y="9360000"/>
            <a:ext cx="2909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F32F-74F1-42F5-9FD5-6B7221A9B109}" type="slidenum">
              <a:rPr b="0" lang="en-GB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896760" y="741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87" name="Slide Number Placeholder 3"/>
          <p:cNvSpPr/>
          <p:nvPr/>
        </p:nvSpPr>
        <p:spPr>
          <a:xfrm>
            <a:off x="3807000" y="9360000"/>
            <a:ext cx="2909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1A38-12C9-41C6-A07A-A833FAA152A5}" type="slidenum">
              <a:rPr b="0" lang="en-GB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89F8-3AD1-48CD-8972-F4824F3CC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60E2-1DCA-4947-8865-1736B11E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FBA026-F01E-4BDC-AA23-6372DCF2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53BA85-A116-420D-959D-380E348D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6A9106-6125-4DDA-B36C-C9306C39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936B86-9F1C-4229-BABF-C817E50C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DF47F0-DFC8-4CFB-A244-DAA89836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8E2C40-68BE-48C6-A57D-D27DAEA8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89C8C5-17A4-4C61-9217-4FDD9535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B4468F-923F-4632-9E05-67D0FBCEE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0AC4A4-716D-4192-9867-A55116AF2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C9084A-994E-48AE-A0E4-F76E0994FC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52E7-9404-4F40-B88D-CCE1D3D1D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2712C1-E4E3-4F93-B84D-E04EA138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072D72-A059-4B01-991C-290EEA8D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88B42D-13E1-4371-8ACF-F3BD05D9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A0A20E-903A-4DCE-B1EC-9CCCEFEFD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DA4027-C22F-4678-B780-C875739C7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7AAE25-AC56-4E89-B4FE-A01635ED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CA80AB-5C3A-468E-85A9-7EB6C09F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5DA1C-0BA8-4F50-92F6-9674B672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59FF7-4B4A-4C87-A68B-061CB4B7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F63A0-2432-43ED-81F8-B4DB2ADF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71A0-A9E9-41DE-AEBB-B2DC25EFA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BCA1A2-D58B-49F6-A305-C63375A28B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48BD-6210-402F-AB9D-4A65DA636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9C36-8211-4A8D-BE4A-7EF9E44E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7BAE-46B1-4EE2-8F4B-89E182DC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3DA35-028C-4B33-945D-3EDED9AF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EF6D-D69E-427C-9EE0-009D8677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7F18-44A1-4412-A864-9B6CBC4E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F16E-2820-47C7-968F-3D1D0BC7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7EA9-A207-40BB-856C-1C8655C2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B319-BAFE-4BFB-8360-6F456BB1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1FFB-810C-4993-A8A1-DE2789E9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80D55-B470-4576-B908-71F99161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4F35E-577D-4C03-A2F9-3FC0DB0D6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2632-2566-4510-B45C-584E340E4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A64018-468D-4C5C-87FD-EE6E98FA23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F8AB68-EA3B-46EA-8B80-515A6688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ED32C7-648B-47C9-A379-947C7AC6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191D5C-CDE7-4F3B-9E55-18D0936B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FFEB37-1041-415D-B859-28AA303AE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8B11-4580-437A-9713-37D9722A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FE8C59-ADDE-4277-AED3-685EB679C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CF8207-53BE-4715-886B-345F3F67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3B5EA6-0C86-4C57-AAC6-A46B2659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FE487C-9ECE-49B9-BE61-4C4085EF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9A6B33-D0CC-48A8-8D20-9C182A22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2B05BB-21F2-49B1-A690-7B8F4A0D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A675AD-0ED1-42D7-B097-EB904BCCD2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F34643-0B83-42C6-8903-C47AE0589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43781A-3226-4AD4-9DBD-AD7435D1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FC2A88-DBCA-4146-8D8E-DD3F3B61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0394-4B80-4451-B5C5-3F63EF17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C0A999-6F41-4B23-8033-F7254080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B3A11D-8AE4-4FA9-A43C-EE63265F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583A75-795D-49FF-980A-97943EDE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FDAFEB-FD92-4A56-9E66-70353DE5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B6E21B-4DE1-4D7E-A6BB-8C429189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0E4F86-975F-4B3E-ACCA-805CC944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6866B1-8EA5-4922-8CD4-F1CDADEE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DA2255-B36F-4035-9940-45D965D0E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CCB83A-5B4E-438B-AB1B-782135452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3C2490-0D10-4532-A382-B66E8973A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F084-0443-459B-8D22-669FADEB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A462B1-DBB9-44BF-B0AE-439AFD1E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F6C451-4254-4C33-938D-80800690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9BEFBB-F0A2-434D-AEBB-5FF14EEB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0C630D-4102-4D4B-A7A1-47A9A82E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468C8A-9F75-4972-BEE6-B34469DD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A94CB5-A795-411C-93E8-E51E9187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A62B0A-BCE0-42E8-81E8-4B4D4364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C595B0-8900-452E-84B3-CCD4077C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67E9BA-E5ED-4E0A-8404-A93834CD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36138C-1951-4AF1-820D-783B24B7E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4993-0804-42A2-B952-A47F8CBE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4808D7-7A9F-43EB-A041-4D9DFDCBD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3088E4-7364-456F-8B29-0E8446FF165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D60E25-4182-4E86-B3F4-E1AC67D259B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2F57DB-3C8A-4D93-8B8D-8B15813D26F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4560A8-5F08-4180-BAE7-4DAA0A2F88A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DD23BF-AF21-4DC7-87FF-FE79BDD979F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76D91A-D82C-4BA4-959A-719E09CBE66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04AE19-AA6E-4DBD-8618-8631ACC5DCC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D7360C-85C8-4AC2-B370-3898A699A94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34A15B-93F1-40C0-B8BF-648462A4D5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9658-72EA-4869-B8E7-B18A64B9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73A24A-7492-4619-BFA1-35FF5881BA8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08E377-AC7D-4E66-AA68-25E2820BF0E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064C5E-8948-4201-BD83-CF41BAF3651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E04AD8-10D0-4DDC-83E0-4AA8B4413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468BD0-0DB8-4B3C-9DBD-036EE757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EA6B22-52F4-420C-AC3F-45713508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2432EE-7AC3-43FE-8668-AE876473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9374B6-9B14-4C29-9D7D-BE1659B6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F9A138-1B62-432D-B6FD-E9B4C25C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56E7AE-3260-4C0C-98D7-193907ED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8E95-2F91-4253-B54D-6F0F80B1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893EE4-0DF0-4544-9A14-7E422AC7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753C9C-6B7C-4211-8BB3-EBE0CAA8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78B3E0-76F4-469D-B94F-68A5767B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D58980-3855-414A-ACEB-01FE47469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D33091-AC8B-4AD4-9099-8F8A0BA11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3501AC-E9B5-4B36-A5ED-464DF7288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14C037-195A-4822-915F-92CECEBB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BEBD5A-7DC1-470E-BA7B-8B08749F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FF7084-B486-448F-A52C-D5B6D3A4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5080F6-7081-46B6-B60C-554624AE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B806-BAAF-4E63-9FE0-E811ECE9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541F6F-6EFB-46D0-8712-5B9914C4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FC8058-51C9-49F7-8DFF-23A22116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DAF21E-30B5-46E2-9DD8-02535F7C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BBACF1-1F97-4160-A2A9-24A5C342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9A9519-2A29-42F7-8A4E-8A7396FB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ABC33F-0D22-4343-92B3-103CDF2EF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3228C1-96CF-4910-A9D6-F00244D0B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217274-CBC4-43EF-92C8-CE85F93FA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793766-C82A-4CB5-BE24-5BCF6A97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1AFA1F-F943-4BD2-8BE1-019E6DFB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9671-8452-471C-9822-93CBA1E8E0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6" descr="erasmus_mundus_ppt_cover.jpg"/>
          <p:cNvPicPr/>
          <p:nvPr/>
        </p:nvPicPr>
        <p:blipFill>
          <a:blip r:embed="rId2"/>
          <a:stretch/>
        </p:blipFill>
        <p:spPr>
          <a:xfrm>
            <a:off x="-108000" y="0"/>
            <a:ext cx="943308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A6F8-56F3-4808-8FAC-435282176F4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04F0-8FEA-4F34-A72F-C2936150B3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erasmus_mundus_ppt_inner_pages.jpg"/>
          <p:cNvPicPr/>
          <p:nvPr/>
        </p:nvPicPr>
        <p:blipFill>
          <a:blip r:embed="rId2"/>
          <a:stretch/>
        </p:blipFill>
        <p:spPr>
          <a:xfrm>
            <a:off x="-144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7"/>
          <p:cNvSpPr/>
          <p:nvPr/>
        </p:nvSpPr>
        <p:spPr>
          <a:xfrm>
            <a:off x="4284720" y="6308640"/>
            <a:ext cx="647640" cy="538200"/>
          </a:xfrm>
          <a:prstGeom prst="rect">
            <a:avLst/>
          </a:prstGeom>
          <a:solidFill>
            <a:srgbClr val="009ec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BE" sz="800" spc="-1" strike="noStrike">
                <a:solidFill>
                  <a:srgbClr val="ffffff"/>
                </a:solidFill>
                <a:latin typeface="Verdana"/>
              </a:rPr>
              <a:t>Erasmus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B155-588E-42D6-B412-B872059F6A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AC20-2F73-4ADF-AD5B-EFF91F5405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6E1F-25C9-42EC-A903-8AFBC095B3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4140360" y="6597720"/>
            <a:ext cx="863280" cy="260280"/>
          </a:xfrm>
          <a:prstGeom prst="rect">
            <a:avLst/>
          </a:prstGeom>
          <a:solidFill>
            <a:srgbClr val="f7c943"/>
          </a:solidFill>
          <a:ln w="9360">
            <a:solidFill>
              <a:srgbClr val="f7c943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Date Placeholder 3"/>
          <p:cNvSpPr/>
          <p:nvPr/>
        </p:nvSpPr>
        <p:spPr>
          <a:xfrm>
            <a:off x="6659640" y="6381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 Bold"/>
              </a:rPr>
              <a:t>Date: in 12 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0" descr="logo_ce-eac-neg-en"/>
          <p:cNvPicPr/>
          <p:nvPr/>
        </p:nvPicPr>
        <p:blipFill>
          <a:blip r:embed="rId2"/>
          <a:stretch/>
        </p:blipFill>
        <p:spPr>
          <a:xfrm>
            <a:off x="3727440" y="339840"/>
            <a:ext cx="2054160" cy="14256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Education </a:t>
            </a:r>
            <a:br>
              <a:rPr sz="1400"/>
            </a:b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and Cul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FE05-DF3C-4C4C-B001-45244F49E0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2E62-D207-407B-A439-393DA6457929}" type="datetime">
              <a:rPr b="0" lang="en-GB" sz="1400" spc="-1" strike="noStrike">
                <a:solidFill>
                  <a:srgbClr val="000000"/>
                </a:solidFill>
                <a:latin typeface="Verdana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B9A0-DAA5-4CD6-8F78-99DABB5F9A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47E3-7501-4888-A71F-7C0694EE8B81}" type="datetime">
              <a:rPr b="0" lang="en-GB" sz="1400" spc="-1" strike="noStrike">
                <a:solidFill>
                  <a:srgbClr val="000000"/>
                </a:solidFill>
                <a:latin typeface="Verdana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B176-55D6-4116-8A9C-2A9001CBFC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0CA1-635B-4B5C-AD4A-4A677085D0DD}" type="datetime">
              <a:rPr b="0" lang="en-GB" sz="1400" spc="-1" strike="noStrike">
                <a:solidFill>
                  <a:srgbClr val="000000"/>
                </a:solidFill>
                <a:latin typeface="Verdana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66E9-22CB-459A-A49D-C03551AFDE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140360" y="1268280"/>
            <a:ext cx="4535280" cy="20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ffd624"/>
                </a:solidFill>
                <a:latin typeface="Verdana"/>
              </a:rPr>
              <a:t>Erasmus+</a:t>
            </a:r>
            <a:endParaRPr b="1" lang="en-US" sz="4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4560" y="3809880"/>
            <a:ext cx="4419720" cy="22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ffffff"/>
                </a:solidFill>
                <a:latin typeface="Verdana"/>
              </a:rPr>
              <a:t>Mobilité des crédits et </a:t>
            </a:r>
            <a:endParaRPr b="0" i="1" lang="en-US" sz="3600" spc="-1" strike="noStrike">
              <a:solidFill>
                <a:srgbClr val="0f5494"/>
              </a:solidFill>
              <a:latin typeface="Verdana"/>
            </a:endParaRPr>
          </a:p>
          <a:p>
            <a:pPr marL="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ffffff"/>
                </a:solidFill>
                <a:latin typeface="Verdana"/>
              </a:rPr>
              <a:t>Jean Monnet</a:t>
            </a:r>
            <a:endParaRPr b="0" i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3" name="Rectangle 3"/>
          <p:cNvSpPr/>
          <p:nvPr/>
        </p:nvSpPr>
        <p:spPr>
          <a:xfrm>
            <a:off x="4284720" y="6237360"/>
            <a:ext cx="647640" cy="647640"/>
          </a:xfrm>
          <a:prstGeom prst="rect">
            <a:avLst/>
          </a:prstGeom>
          <a:solidFill>
            <a:srgbClr val="009ec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BE" sz="800" spc="-1" strike="noStrike">
                <a:solidFill>
                  <a:srgbClr val="ffffff"/>
                </a:solidFill>
                <a:latin typeface="Verdana"/>
              </a:rPr>
              <a:t>Erasmus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Content Placeholder 3" descr=""/>
          <p:cNvPicPr/>
          <p:nvPr/>
        </p:nvPicPr>
        <p:blipFill>
          <a:blip r:embed="rId1"/>
          <a:stretch/>
        </p:blipFill>
        <p:spPr>
          <a:xfrm>
            <a:off x="4599000" y="3068640"/>
            <a:ext cx="458136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"/>
          <p:cNvPicPr/>
          <p:nvPr/>
        </p:nvPicPr>
        <p:blipFill>
          <a:blip r:embed="rId1"/>
          <a:stretch/>
        </p:blipFill>
        <p:spPr>
          <a:xfrm>
            <a:off x="0" y="-120600"/>
            <a:ext cx="9144000" cy="70056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2" descr=""/>
          <p:cNvPicPr/>
          <p:nvPr/>
        </p:nvPicPr>
        <p:blipFill>
          <a:blip r:embed="rId2"/>
          <a:stretch/>
        </p:blipFill>
        <p:spPr>
          <a:xfrm flipH="1" rot="10396800">
            <a:off x="137880" y="366840"/>
            <a:ext cx="6165720" cy="5680080"/>
          </a:xfrm>
          <a:prstGeom prst="rect">
            <a:avLst/>
          </a:prstGeom>
          <a:ln w="0">
            <a:noFill/>
          </a:ln>
        </p:spPr>
      </p:pic>
      <p:sp>
        <p:nvSpPr>
          <p:cNvPr id="454" name="ZoneTexte 60"/>
          <p:cNvSpPr/>
          <p:nvPr/>
        </p:nvSpPr>
        <p:spPr>
          <a:xfrm>
            <a:off x="900000" y="828720"/>
            <a:ext cx="2320920" cy="581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  <a:ea typeface="Arial"/>
              </a:rPr>
              <a:t>Tr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55640" y="1700280"/>
          <a:ext cx="5194440" cy="3767040"/>
        </p:xfrm>
        <a:graphic>
          <a:graphicData uri="http://schemas.openxmlformats.org/drawingml/2006/table">
            <a:tbl>
              <a:tblPr/>
              <a:tblGrid>
                <a:gridCol w="2664000"/>
                <a:gridCol w="2530440"/>
              </a:tblGrid>
              <a:tr h="1100160">
                <a:tc>
                  <a:txBody>
                    <a:bodyPr lIns="54000" rIns="54000" tIns="0" bIns="0" anchor="ctr">
                      <a:noAutofit/>
                    </a:bodyPr>
                    <a:p>
                      <a:pPr marL="20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Travel distances (k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marL="20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€ 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/ particip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4424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00 - 4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4460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500 - 19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000 - 29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3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4460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3000 - 39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5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4000 - 79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2520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8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2520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4460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≥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8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2520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2520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56" name="Rectangle 1"/>
          <p:cNvSpPr/>
          <p:nvPr/>
        </p:nvSpPr>
        <p:spPr>
          <a:xfrm>
            <a:off x="4938840" y="31633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3" descr=""/>
          <p:cNvPicPr/>
          <p:nvPr/>
        </p:nvPicPr>
        <p:blipFill>
          <a:blip r:embed="rId1"/>
          <a:srcRect l="3979" t="0" r="0" b="0"/>
          <a:stretch/>
        </p:blipFill>
        <p:spPr>
          <a:xfrm>
            <a:off x="-181080" y="-100080"/>
            <a:ext cx="10022040" cy="695808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042560" y="4724280"/>
            <a:ext cx="4032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ffffff"/>
                </a:solidFill>
                <a:latin typeface="Verdana"/>
              </a:rPr>
              <a:t>Activités</a:t>
            </a:r>
            <a:br>
              <a:rPr sz="4000"/>
            </a:br>
            <a:r>
              <a:rPr b="1" lang="fr-BE" sz="4000" spc="-1" strike="noStrike">
                <a:solidFill>
                  <a:srgbClr val="ffffff"/>
                </a:solidFill>
                <a:latin typeface="Verdana"/>
              </a:rPr>
              <a:t>Jean Monnet</a:t>
            </a:r>
            <a:endParaRPr b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1436-3A30-43FA-8989-560FF6470F9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Jean Monnet en bref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7200" y="220968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f5494"/>
                </a:solidFill>
                <a:latin typeface="Verdana"/>
              </a:rPr>
              <a:t>Objectif: Accroître la connaissance sur l’intégration européenne en soutenant l’enseignement, la recherche et le débat sur l’UE.</a:t>
            </a:r>
            <a:endParaRPr b="0" i="1" lang="en-US" sz="23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f5494"/>
                </a:solidFill>
                <a:latin typeface="Verdana"/>
              </a:rPr>
              <a:t>En particulier: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f5494"/>
                </a:solidFill>
                <a:latin typeface="Verdana"/>
              </a:rPr>
              <a:t>Doter les étudiants et les jeunes professionnels d'une connaissance de l'UE</a:t>
            </a: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f5494"/>
                </a:solidFill>
                <a:latin typeface="Verdana"/>
              </a:rPr>
              <a:t>Stimuler l'enseignement et la recherche sur l'Union européenne</a:t>
            </a: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f5494"/>
                </a:solidFill>
                <a:latin typeface="Verdana"/>
              </a:rPr>
              <a:t>Encourager le dialogue entre l'Union européenne et le monde de l'enseignement supérieur</a:t>
            </a: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2755-ABC7-4CC1-B65A-4FB71D49C9B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68000" y="1341000"/>
            <a:ext cx="8496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Jean Monnet  a worldwide Network 1989 - 2014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64" name="Picture 8" descr="ajmworlwide5.JPG"/>
          <p:cNvPicPr/>
          <p:nvPr/>
        </p:nvPicPr>
        <p:blipFill>
          <a:blip r:embed="rId1"/>
          <a:stretch/>
        </p:blipFill>
        <p:spPr>
          <a:xfrm>
            <a:off x="755640" y="2182680"/>
            <a:ext cx="7488360" cy="331164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395280" y="5373720"/>
            <a:ext cx="345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f5494"/>
                </a:solidFill>
                <a:latin typeface="Verdana"/>
                <a:ea typeface="Verdana"/>
              </a:rPr>
              <a:t>78 countries </a:t>
            </a:r>
            <a:r>
              <a:rPr b="0" lang="en-GB" sz="1200" spc="-1" strike="noStrike">
                <a:solidFill>
                  <a:srgbClr val="0f5494"/>
                </a:solidFill>
                <a:latin typeface="Verdana"/>
                <a:ea typeface="Verdana"/>
              </a:rPr>
              <a:t>throughout the wor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  <a:ea typeface="Verdana"/>
              </a:rPr>
              <a:t>more than </a:t>
            </a:r>
            <a:r>
              <a:rPr b="1" lang="en-GB" sz="1200" spc="-1" strike="noStrike">
                <a:solidFill>
                  <a:srgbClr val="0f5494"/>
                </a:solidFill>
                <a:latin typeface="Verdana"/>
                <a:ea typeface="Verdana"/>
              </a:rPr>
              <a:t>800 universities </a:t>
            </a:r>
            <a:r>
              <a:rPr b="0" lang="en-GB" sz="1200" spc="-1" strike="noStrike">
                <a:solidFill>
                  <a:srgbClr val="0f5494"/>
                </a:solidFill>
                <a:latin typeface="Verdana"/>
                <a:ea typeface="Verdana"/>
              </a:rPr>
              <a:t>offering Jean Monnet courses as part of their curric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8"/>
          <p:cNvSpPr/>
          <p:nvPr/>
        </p:nvSpPr>
        <p:spPr>
          <a:xfrm>
            <a:off x="4716360" y="5445000"/>
            <a:ext cx="388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Over </a:t>
            </a:r>
            <a:r>
              <a:rPr b="1" lang="en-GB" sz="1200" spc="-1" strike="noStrike">
                <a:solidFill>
                  <a:srgbClr val="0f5494"/>
                </a:solidFill>
                <a:latin typeface="Verdana"/>
              </a:rPr>
              <a:t>4,200 projects </a:t>
            </a: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in the field of European integration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more than </a:t>
            </a:r>
            <a:r>
              <a:rPr b="1" lang="en-GB" sz="1200" spc="-1" strike="noStrike">
                <a:solidFill>
                  <a:srgbClr val="0f5494"/>
                </a:solidFill>
                <a:latin typeface="Verdana"/>
              </a:rPr>
              <a:t>1,700 profes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f5494"/>
                </a:solidFill>
                <a:latin typeface="Verdana"/>
              </a:rPr>
              <a:t>265,000 students every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68360" y="1371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Jean Monnet: comment ça marche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256536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3 types de projet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Enseignement et recherche (modules, chaises, des centres d'excellence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Débat politique dans le monde académique (réseaux, projets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Soutien aux activités des institutions ou des association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4D9D-5C69-4C67-8B36-E4466AD1058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Jean Monnet: comment postuler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2362320"/>
            <a:ext cx="8229600" cy="38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f5494"/>
                </a:solidFill>
                <a:latin typeface="Verdana"/>
              </a:rPr>
              <a:t>Appel à propositions annuel publié par l'UE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f5494"/>
                </a:solidFill>
                <a:latin typeface="Verdana"/>
              </a:rPr>
              <a:t>Les candidatures peuvent venir d'un établissement dans n'importe quels pays du monde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f5494"/>
                </a:solidFill>
                <a:latin typeface="Verdana"/>
              </a:rPr>
              <a:t>Postuler directement à EACEA: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f5494"/>
                </a:solidFill>
                <a:latin typeface="Verdana"/>
              </a:rPr>
              <a:t>http://eacea.ec.europa.eu/erasmus-plus/funding_en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2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03FE-A30E-40AC-8937-C3749DFA48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f5494"/>
                </a:solidFill>
                <a:latin typeface="Verdana"/>
              </a:rPr>
              <a:t>Appel à propositions - Délai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68000" y="22096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http://ec.europa.eu/programmes/erasmus-plus/calls/index_fr.htm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5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1042920" y="3068640"/>
          <a:ext cx="6837480" cy="2614680"/>
        </p:xfrm>
        <a:graphic>
          <a:graphicData uri="http://schemas.openxmlformats.org/drawingml/2006/table">
            <a:tbl>
              <a:tblPr/>
              <a:tblGrid>
                <a:gridCol w="3419640"/>
                <a:gridCol w="3417840"/>
              </a:tblGrid>
              <a:tr h="865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70c0"/>
                          </a:solidFill>
                          <a:latin typeface="Verdana Bold"/>
                          <a:ea typeface="Arial"/>
                        </a:rPr>
                        <a:t>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0070c0"/>
                          </a:solidFill>
                          <a:latin typeface="Verdana Bold"/>
                          <a:ea typeface="Arial"/>
                        </a:rPr>
                        <a:t>Délai de soumission des proj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63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1c3c90"/>
                          </a:solidFill>
                          <a:latin typeface="Verdana Bold"/>
                          <a:ea typeface="Arial"/>
                        </a:rPr>
                        <a:t>Renforcement des capacit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 Bold"/>
                          <a:ea typeface="Arial"/>
                        </a:rPr>
                        <a:t>10 février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372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1c3c90"/>
                          </a:solidFill>
                          <a:latin typeface="Verdana Bold"/>
                          <a:ea typeface="Arial"/>
                        </a:rPr>
                        <a:t>Jean M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 Bold"/>
                          <a:ea typeface="Arial"/>
                        </a:rPr>
                        <a:t>26 février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37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1c3c90"/>
                          </a:solidFill>
                          <a:latin typeface="Verdana Bold"/>
                          <a:ea typeface="Arial"/>
                        </a:rPr>
                        <a:t>Masters conj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 Bold"/>
                          <a:ea typeface="Arial"/>
                        </a:rPr>
                        <a:t>4 mars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372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1c3c90"/>
                          </a:solidFill>
                          <a:latin typeface="Verdana Bold"/>
                          <a:ea typeface="Arial"/>
                        </a:rPr>
                        <a:t>Mobilité de créd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 Bold"/>
                          <a:ea typeface="Arial"/>
                        </a:rPr>
                        <a:t>4 mars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4" descr=""/>
          <p:cNvPicPr/>
          <p:nvPr/>
        </p:nvPicPr>
        <p:blipFill>
          <a:blip r:embed="rId1"/>
          <a:stretch/>
        </p:blipFill>
        <p:spPr>
          <a:xfrm>
            <a:off x="5435640" y="4797360"/>
            <a:ext cx="3313080" cy="192744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68360" y="10666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Plus d' information: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539640" y="148392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Information pour Erasmus+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http://ec.europa.eu/programmes/erasmus-plus/index_fr.htm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Information pour Erasmus+ possibilités de financeme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http://eacea.ec.europa.eu/erasmus-plus/funding_e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	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9FEF-A3B5-48AD-8A5F-FBC2B2D557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3" descr="thankyou3.jpg"/>
          <p:cNvPicPr/>
          <p:nvPr/>
        </p:nvPicPr>
        <p:blipFill>
          <a:blip r:embed="rId1"/>
          <a:stretch/>
        </p:blipFill>
        <p:spPr>
          <a:xfrm>
            <a:off x="392040" y="1268280"/>
            <a:ext cx="8170920" cy="5040360"/>
          </a:xfrm>
          <a:prstGeom prst="rect">
            <a:avLst/>
          </a:prstGeom>
          <a:ln w="0">
            <a:noFill/>
          </a:ln>
        </p:spPr>
      </p:pic>
      <p:sp>
        <p:nvSpPr>
          <p:cNvPr id="48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6F41-D2C4-4007-BE6F-6741AEA4EC8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8000" y="1341360"/>
            <a:ext cx="849636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4 Actions principales dans la composante internationale Erasmus+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2590560"/>
            <a:ext cx="822960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" indent="-27000">
              <a:spcBef>
                <a:spcPts val="799"/>
              </a:spcBef>
              <a:buClr>
                <a:srgbClr val="0f54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5494"/>
                </a:solidFill>
                <a:latin typeface="Verdana"/>
              </a:rPr>
              <a:t>Mobilité de crédits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 lvl="1" marL="27000" indent="-27000">
              <a:spcBef>
                <a:spcPts val="799"/>
              </a:spcBef>
              <a:buClr>
                <a:srgbClr val="0f54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f5494"/>
                </a:solidFill>
                <a:latin typeface="Verdana"/>
              </a:rPr>
              <a:t>Masters conjoint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  <a:p>
            <a:pPr lvl="1" marL="27000" indent="-27000">
              <a:spcBef>
                <a:spcPts val="799"/>
              </a:spcBef>
              <a:buClr>
                <a:srgbClr val="0f54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f5494"/>
                </a:solidFill>
                <a:latin typeface="Verdana"/>
              </a:rPr>
              <a:t>Renforcement des capacités pour l'enseignement supérieur (ex-Tempus)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  <a:p>
            <a:pPr lvl="1" marL="27000" indent="-27000">
              <a:spcBef>
                <a:spcPts val="799"/>
              </a:spcBef>
              <a:buClr>
                <a:srgbClr val="0f54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f5494"/>
                </a:solidFill>
                <a:latin typeface="Verdana"/>
              </a:rPr>
              <a:t>Activités Jean Monnet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7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F08D-0042-48E2-BD3A-37B2F606709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4" descr=""/>
          <p:cNvPicPr/>
          <p:nvPr/>
        </p:nvPicPr>
        <p:blipFill>
          <a:blip r:embed="rId1"/>
          <a:stretch/>
        </p:blipFill>
        <p:spPr>
          <a:xfrm>
            <a:off x="-252360" y="0"/>
            <a:ext cx="10296360" cy="68644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067280" y="2852280"/>
            <a:ext cx="446544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0f5494"/>
                </a:solidFill>
                <a:latin typeface="Verdana"/>
              </a:rPr>
              <a:t>Mobilité de crédits</a:t>
            </a:r>
            <a:br>
              <a:rPr sz="4000"/>
            </a:br>
            <a:endParaRPr b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D9A0-24B8-490A-8A46-61FB59CEB0F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6836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Mobilité de crédits en bref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7200" y="2362320"/>
            <a:ext cx="8229600" cy="38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Des études à court terme à l'étranger qui comptent pour la reconnaissance d'un diplôme dans le pays d'origine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Ouverture internationale d'Erasmu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Mobilité pour les niveaux "licence" (Bachelor), Master et doctorat - et pour le personn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60FD-0D5A-48CA-A938-B5E9E07DFD4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9036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Mobilité de crédits: comment ça marche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250560" y="2286000"/>
            <a:ext cx="843588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f5494"/>
                </a:solidFill>
                <a:latin typeface="Verdana"/>
              </a:rPr>
              <a:t>Gérée par les agences nationales Erasmus+ dans les pays membres du programme 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64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f5494"/>
                </a:solidFill>
                <a:latin typeface="Verdana"/>
              </a:rPr>
              <a:t>Chaque établissement d'enseignement supérieur (EES) met en place un/des accord (s) inter-institutionnel(s)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64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f5494"/>
                </a:solidFill>
                <a:latin typeface="Verdana"/>
              </a:rPr>
              <a:t>L'accord définit le cadre pour l'envoi et l'accueil des étudiants et du personnel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D3F0-D54B-4620-9908-2399050430C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9036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Mobilité de crédits: comment ça marche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250560" y="2362320"/>
            <a:ext cx="8435880" cy="38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0f5494"/>
                </a:solidFill>
                <a:latin typeface="Verdana"/>
              </a:rPr>
              <a:t>Etudiants: 3 à 12 mois</a:t>
            </a: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0f5494"/>
                </a:solidFill>
                <a:latin typeface="Verdana"/>
              </a:rPr>
              <a:t>Personnel: 5 jours à 2 mois</a:t>
            </a: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0f5494"/>
                </a:solidFill>
                <a:latin typeface="Verdana"/>
              </a:rPr>
              <a:t>Tous les niveaux (Licence, Doctorat)</a:t>
            </a: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0f5494"/>
                </a:solidFill>
                <a:latin typeface="Verdana"/>
              </a:rPr>
              <a:t>Toutes les disciplines</a:t>
            </a: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8B5F-BAF6-48B7-B3F6-C04A4538A97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68360" y="1371240"/>
            <a:ext cx="822960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Mobilité de crédits: </a:t>
            </a:r>
            <a:br>
              <a:rPr sz="3000"/>
            </a:b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comment postuler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7200" y="2286000"/>
            <a:ext cx="822960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24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f5494"/>
                </a:solidFill>
                <a:latin typeface="Verdana"/>
              </a:rPr>
              <a:t>Accords de mobilité internationale entre les pays membres du programme et les pays partenaires seront sélectionnés en 2015 (Appel à propositions lancé début octobre 2014)</a:t>
            </a:r>
            <a:endParaRPr b="0" i="1" lang="en-US" sz="21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f5494"/>
                </a:solidFill>
                <a:latin typeface="Verdana"/>
              </a:rPr>
              <a:t>Uniquement les établissements d'enseignement supérieur (EES) des pays membres du programme peuvent postuler via leur agence nationale pour gérer les accords de mobilité</a:t>
            </a:r>
            <a:endParaRPr b="0" i="1" lang="en-US" sz="21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f5494"/>
                </a:solidFill>
                <a:latin typeface="Verdana"/>
              </a:rPr>
              <a:t>Les établissements d'enseignement supérieur des pays partenaires devraient renforcer leurs liens avec les établissements d'enseignement supérieur des pays membres du programme pour avoir accès à ce financement</a:t>
            </a:r>
            <a:endParaRPr b="0" i="1" lang="en-US" sz="21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CBAF-924F-4F8D-A4BC-9C3D6729A41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1"/>
          <a:stretch/>
        </p:blipFill>
        <p:spPr>
          <a:xfrm>
            <a:off x="0" y="-120600"/>
            <a:ext cx="9144000" cy="70056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2" descr=""/>
          <p:cNvPicPr/>
          <p:nvPr/>
        </p:nvPicPr>
        <p:blipFill>
          <a:blip r:embed="rId2"/>
          <a:stretch/>
        </p:blipFill>
        <p:spPr>
          <a:xfrm flipH="1" rot="10396800">
            <a:off x="134640" y="-140760"/>
            <a:ext cx="3925800" cy="703872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3"/>
          <p:cNvSpPr/>
          <p:nvPr/>
        </p:nvSpPr>
        <p:spPr>
          <a:xfrm>
            <a:off x="395280" y="1881360"/>
            <a:ext cx="3313080" cy="39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Aft>
                <a:spcPts val="2999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Vers les pays programm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€850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€800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€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Aft>
                <a:spcPts val="2999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Vers les pays partenair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€6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ZoneTexte 60"/>
          <p:cNvSpPr/>
          <p:nvPr/>
        </p:nvSpPr>
        <p:spPr>
          <a:xfrm>
            <a:off x="372960" y="549360"/>
            <a:ext cx="3095640" cy="10688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  <a:ea typeface="Arial"/>
              </a:rPr>
              <a:t>Student Un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  <a:ea typeface="Arial"/>
              </a:rPr>
              <a:t>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Table 1" descr=""/>
          <p:cNvPicPr/>
          <p:nvPr/>
        </p:nvPicPr>
        <p:blipFill>
          <a:blip r:embed="rId3"/>
          <a:stretch/>
        </p:blipFill>
        <p:spPr>
          <a:xfrm>
            <a:off x="3852720" y="1170000"/>
            <a:ext cx="5254920" cy="4425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" descr=""/>
          <p:cNvPicPr/>
          <p:nvPr/>
        </p:nvPicPr>
        <p:blipFill>
          <a:blip r:embed="rId2"/>
          <a:stretch/>
        </p:blipFill>
        <p:spPr>
          <a:xfrm rot="403200">
            <a:off x="557280" y="412920"/>
            <a:ext cx="6680160" cy="6345000"/>
          </a:xfrm>
          <a:prstGeom prst="rect">
            <a:avLst/>
          </a:prstGeom>
          <a:ln w="0">
            <a:noFill/>
          </a:ln>
        </p:spPr>
      </p:pic>
      <p:sp>
        <p:nvSpPr>
          <p:cNvPr id="450" name="ZoneTexte 60"/>
          <p:cNvSpPr/>
          <p:nvPr/>
        </p:nvSpPr>
        <p:spPr>
          <a:xfrm>
            <a:off x="1679400" y="981000"/>
            <a:ext cx="3024360" cy="520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  <a:ea typeface="Arial"/>
              </a:rPr>
              <a:t>Staff Unit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1332000" y="1700280"/>
          <a:ext cx="5040360" cy="4259160"/>
        </p:xfrm>
        <a:graphic>
          <a:graphicData uri="http://schemas.openxmlformats.org/drawingml/2006/table">
            <a:tbl>
              <a:tblPr/>
              <a:tblGrid>
                <a:gridCol w="3349440"/>
                <a:gridCol w="1690920"/>
              </a:tblGrid>
              <a:tr h="733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Host Cou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Per Di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DK, IE, NL, SE, U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46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BE, BG, CZ, EL, FR, IT, CY, LU, HU, AT, PL, RO, FI, IS, LI, NO, T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3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DE, ES, LV, MT, PO, SK, FYROM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EE, HR, LT, 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1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Partner Countr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4:05:48Z</dcterms:created>
  <dc:creator>lenain</dc:creator>
  <dc:description/>
  <dc:language>en-US</dc:language>
  <cp:lastModifiedBy>Eva Valle</cp:lastModifiedBy>
  <cp:lastPrinted>2014-04-23T13:58:44Z</cp:lastPrinted>
  <dcterms:modified xsi:type="dcterms:W3CDTF">2014-12-02T21:41:45Z</dcterms:modified>
  <cp:revision>380</cp:revision>
  <dc:subject/>
  <dc:title>Slide 1</dc:title>
</cp:coreProperties>
</file>