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5.png" ContentType="image/png"/>
  <Override PartName="/ppt/media/image10.png" ContentType="image/pn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0" y="0"/>
            <a:ext cx="67176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dt" idx="24"/>
          </p:nvPr>
        </p:nvSpPr>
        <p:spPr>
          <a:xfrm>
            <a:off x="3806640" y="-360"/>
            <a:ext cx="290988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91B0-697B-42D1-A27F-281CDDBB20A8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sldImg"/>
          </p:nvPr>
        </p:nvSpPr>
        <p:spPr>
          <a:xfrm>
            <a:off x="896400" y="741240"/>
            <a:ext cx="4924440" cy="369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body"/>
          </p:nvPr>
        </p:nvSpPr>
        <p:spPr>
          <a:xfrm>
            <a:off x="671400" y="46778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ftr" idx="25"/>
          </p:nvPr>
        </p:nvSpPr>
        <p:spPr>
          <a:xfrm>
            <a:off x="-360" y="935964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 type="sldNum" idx="26"/>
          </p:nvPr>
        </p:nvSpPr>
        <p:spPr>
          <a:xfrm>
            <a:off x="3806640" y="9359640"/>
            <a:ext cx="290988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3212-A211-47DD-95A9-6DCD10B678B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896760" y="741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71400" y="46778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07000" y="9360000"/>
            <a:ext cx="2909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93BB-B9A2-42CB-834B-2B56E44BC441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896760" y="741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97" name="Slide Number Placeholder 3"/>
          <p:cNvSpPr/>
          <p:nvPr/>
        </p:nvSpPr>
        <p:spPr>
          <a:xfrm>
            <a:off x="3807000" y="9360000"/>
            <a:ext cx="2909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93A2-0DF7-4302-BE9F-F78F76566B34}" type="slidenum">
              <a:rPr b="0" lang="en-GB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Organisation Support = 350 EUR per participa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Living Allowance = monthly unit cost for students or daily unit cost for staff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ravel = unit cost based on dist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gramme Country beneficiaries will receive the entire budget and can make flexible arrangements with their Partner HEIs on how to manage the budget – this should be encoded in the I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896760" y="741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71400" y="46778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07000" y="9360000"/>
            <a:ext cx="2909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D13D-864F-4F12-8A75-537C3ECE07A9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896760" y="741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71400" y="46778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07000" y="9360000"/>
            <a:ext cx="2909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C080-DF94-4C72-99E6-9095605917E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896760" y="741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71400" y="46778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07000" y="9360000"/>
            <a:ext cx="2909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C931-C601-446D-8212-7587304735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896760" y="741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71400" y="46778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07000" y="9360000"/>
            <a:ext cx="2909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D14E-968B-413B-A5D1-504FDC08BDD9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896760" y="741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71400" y="46778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Les pays Programme sont les 28 pays de l'UE + la Norvège, l'Islande, le Liechtenstein, la Turquie et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l'Ancienne République yougoslave de Macédoine, c'est-à-dire tous les pays qui contribuent financièrement au programme et ont une Agence nationale pour le gérer.  Les pays Partenaires sont tous les autres pays à travers le mon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07000" y="9360000"/>
            <a:ext cx="2909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5240-B924-4CAF-822F-4E74A2CBF9E7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D6D1-ADD9-4EA8-9794-5CB081910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C75A-5157-4332-AB3F-6CA42BF7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CC2DA6-2498-414B-80F2-468169C6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FDA019-EFEE-452B-80A1-6B4C7E76B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542242-8855-4925-9052-0611E5AAB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48654B-07BC-4DA4-B3FE-6BFFAB9E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E3F0FE-E064-4FF4-BCD5-C70928FD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687013-77D1-4BEB-99C9-96922F13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C92732-A64C-43C3-B066-CEA4BFC0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B00ED7-A25E-4190-AB62-EB33B281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ECBF66-FD11-4315-841E-914E2D3926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70EE-0936-40FF-8B88-88C0A56F7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AE46-77FE-453B-98CE-8B4661744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92E5F-9832-4010-8B6A-85031832A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12C40-C424-4C7A-BEB5-34A0F197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A3E6-5267-4685-8F49-6141DCB2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EBFF-E87F-4B09-933C-7A89A946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20140-86F1-4E7E-BF49-034D4C3A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682C-A5FF-481C-B902-680EABD0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6C1AD-4583-42D9-8AB2-30AEFC2D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079E-742F-455A-8D38-22FCDD3F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D330-99CF-41BD-8369-AE856925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D2AD-FBDA-4A11-996E-582A4A31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1D7F-6345-4B0C-AADD-9EA382B9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8BEF3-408D-4484-B368-EA61695AE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4A96-22C6-402C-8C61-B05E37F98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3141D5-68D3-4EA0-9691-EB4F38DC19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953194-5A4C-4CDD-9CE9-83457681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C0302B-3ABD-4F55-BEE7-4C2F617C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CFEBF9-5730-4E5A-B52F-E9F313CB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6854EC-7925-4B25-B305-4D153F329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AF10-37F2-4882-A686-8F88E7B0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B45347-23FD-451B-A31F-A5515C8E2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CC174F-9DCC-4B52-8EFA-5FC1EEA8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EDCDDA-3A93-43AC-9404-BF609995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0CF05F-EA84-4088-9BC8-833CB8BD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11258B-6929-447A-843B-C315BED2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F02CBD-8833-4673-A11B-566AA61B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60E65F-9A3F-4C2F-ADAE-9F15C66972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7E8776-2BC0-4C6D-A8DB-4240FB056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13A2ED-EA37-4541-81A4-62C0F2CB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AD9B91-F2A5-46CF-A9E1-24FD1294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4E67-402E-4F46-95A6-EDF260AC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891310-4536-49D1-8727-95BBC7C8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51CB74-E1A9-43E5-977A-7ADD3E19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C86C6B-CBA7-4132-9BA7-F501E518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C04F4B-B8F4-4270-AB3B-08F86661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F526AE-C42A-4A06-8D93-3BCA4E73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F5C2D1-F020-49F1-A9FB-AC5C3EB5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885C8D-D73F-4ED8-9DB8-2D95DFB7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A788D0-64D9-416B-A53C-AEC419E4D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E130CE-787B-4839-8467-E60DD9253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D68A52-AA6F-47E5-9669-48AE8838F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08DF-5105-49D2-983F-37EF555E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BA1475-63CA-4CB4-AFB0-CD28CCF5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B25549-9F93-4037-8B15-72F04D05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FAC895-5E3C-4E18-AC7F-8FA4223D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3256A0-5A08-46D3-A23A-ED336E47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6EA98F-B24B-431D-BE0D-362C53DA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C5372F-02E7-4BD1-9E37-67C1EFE2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BF973D-819A-413E-899C-F2F35287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58E09B-B5F5-40A3-9AC2-4F4E8FDF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251722-1BE7-4503-90D3-4CFDECE2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FEA2D2-C27E-42EE-8BA0-CFFE50D14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E20A-7BA4-43AB-BAEC-A71130E3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31A787-79AF-4241-A60A-F49C251B7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3F8C92-A7DA-495C-8CF0-1C7DDB64B4A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2608DF-2E60-4FE2-8427-62596A46403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5C66CF-FDED-4932-86F6-B05A2EF86CC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3A8341-A845-4C3A-A01B-C03FA9790C0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77D439-D9AE-4D30-9382-57B56F05BBF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637D8E-803F-4394-BE42-22925A2E599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7450E9-2052-4A74-909D-2C25976D7A5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900684-BEA7-4644-9329-DAA41F5ADD9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66E8B1-2967-4A54-AA52-D3AC40BF63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E069-127A-475D-9489-2EC6BA66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607D96-CC6B-41EF-81B3-F455414F1F7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FE3C33-B1E2-4370-A65D-7A68187837E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14A78C-356B-40E6-A582-88383F67B67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7049A9-332C-4B48-97AA-CA0D68120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C7B13E-3390-4B1D-A6BC-01C0059E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B67D83-5BD4-48A9-8537-ADF68121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0AF511-3CBB-424F-BC1F-6708E5F4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4D2C7E-7910-4432-A330-F5FC4D30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1A10A2-9185-4E11-ADC1-CA9B57FC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27EDAA-F81E-40DA-A50A-230D2293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BE74-5220-4DE3-B31F-DA070BDE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537ACD-1E45-4815-8547-B5C18C92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16592D-4A37-4761-9B42-9638949C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3D92AD-5EAE-4C19-A9B2-3FCBAD6B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66E8AE-3B2A-4C90-8B5C-108087EDA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3DBF89-E5E9-4515-94AC-3C1928538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0BE7F-999C-4B90-A588-EA13E3643D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89031-2B16-440B-A954-A4D0C278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4D700-B755-4F45-9B95-55E663E7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9C48F-498B-498C-8FE9-2BC19408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240C9-86E9-49BC-AFB8-ED7FCD940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3392-727B-47B0-A2F5-EEC796FC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830AD-B4F3-446B-9BE1-E840F6C5C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640AC-C2D7-45FA-B2E5-B6CF0058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88AA6-470B-472B-BC79-E3CB4F49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518B2-1A65-47F6-A357-65860305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7DE26-30AD-446C-82B1-3ACB15A1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42677-4AF8-499B-9D12-3B559247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99A6A-134A-401B-9132-3EEAF3AFC6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20E087-1DB5-4314-9D8A-78CA9F3491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E8D2A8-CA38-4E33-8776-F7591259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161400-F1E2-442E-B932-2A3ED588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BB6D-52C6-4175-B70D-72313264DC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75DE-F466-4560-A676-D67896ED88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erasmus_mundus_ppt_inner_pages.jpg"/>
          <p:cNvPicPr/>
          <p:nvPr/>
        </p:nvPicPr>
        <p:blipFill>
          <a:blip r:embed="rId2"/>
          <a:stretch/>
        </p:blipFill>
        <p:spPr>
          <a:xfrm>
            <a:off x="-144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7"/>
          <p:cNvSpPr/>
          <p:nvPr/>
        </p:nvSpPr>
        <p:spPr>
          <a:xfrm>
            <a:off x="4284720" y="6308640"/>
            <a:ext cx="647640" cy="538200"/>
          </a:xfrm>
          <a:prstGeom prst="rect">
            <a:avLst/>
          </a:prstGeom>
          <a:solidFill>
            <a:srgbClr val="009ec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BE" sz="800" spc="-1" strike="noStrike">
                <a:solidFill>
                  <a:srgbClr val="ffffff"/>
                </a:solidFill>
                <a:latin typeface="Verdana"/>
              </a:rPr>
              <a:t>Erasmus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ACCC-49C6-4079-8791-C44F564691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28AB-442E-4D9D-930B-52E558B5D0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1FB4-9A93-4E93-9B6C-12AA48F3B4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4140360" y="6597720"/>
            <a:ext cx="863280" cy="260280"/>
          </a:xfrm>
          <a:prstGeom prst="rect">
            <a:avLst/>
          </a:prstGeom>
          <a:solidFill>
            <a:srgbClr val="f7c943"/>
          </a:solidFill>
          <a:ln w="9360">
            <a:solidFill>
              <a:srgbClr val="f7c943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Date Placeholder 3"/>
          <p:cNvSpPr/>
          <p:nvPr/>
        </p:nvSpPr>
        <p:spPr>
          <a:xfrm>
            <a:off x="6659640" y="6381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 Bold"/>
              </a:rPr>
              <a:t>Date: in 12 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0" descr="logo_ce-eac-neg-en"/>
          <p:cNvPicPr/>
          <p:nvPr/>
        </p:nvPicPr>
        <p:blipFill>
          <a:blip r:embed="rId2"/>
          <a:stretch/>
        </p:blipFill>
        <p:spPr>
          <a:xfrm>
            <a:off x="3727440" y="339840"/>
            <a:ext cx="2054160" cy="14256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Education </a:t>
            </a:r>
            <a:br>
              <a:rPr sz="1400"/>
            </a:b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and Cul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9799-4D82-4FFB-9750-165F789F21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A0F7-B004-4133-B6F0-BA2F1EEF978C}" type="datetime">
              <a:rPr b="0" lang="en-GB" sz="1400" spc="-1" strike="noStrike">
                <a:solidFill>
                  <a:srgbClr val="000000"/>
                </a:solidFill>
                <a:latin typeface="Verdana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2606-4A2F-4032-945B-A442396A1E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6" descr="erasmus_mundus_ppt_cover.jpg"/>
          <p:cNvPicPr/>
          <p:nvPr/>
        </p:nvPicPr>
        <p:blipFill>
          <a:blip r:embed="rId2"/>
          <a:stretch/>
        </p:blipFill>
        <p:spPr>
          <a:xfrm>
            <a:off x="-108000" y="0"/>
            <a:ext cx="943308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15EC-1C92-4038-941F-C23EA051397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6" descr="erasmus_mundus_ppt_inner_pages.jpg"/>
          <p:cNvPicPr/>
          <p:nvPr/>
        </p:nvPicPr>
        <p:blipFill>
          <a:blip r:embed="rId2"/>
          <a:stretch/>
        </p:blipFill>
        <p:spPr>
          <a:xfrm>
            <a:off x="-144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7"/>
          <p:cNvSpPr/>
          <p:nvPr/>
        </p:nvSpPr>
        <p:spPr>
          <a:xfrm>
            <a:off x="4284720" y="6308640"/>
            <a:ext cx="647640" cy="538200"/>
          </a:xfrm>
          <a:prstGeom prst="rect">
            <a:avLst/>
          </a:prstGeom>
          <a:solidFill>
            <a:srgbClr val="009ec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BE" sz="800" spc="-1" strike="noStrike">
                <a:solidFill>
                  <a:srgbClr val="ffffff"/>
                </a:solidFill>
                <a:latin typeface="Verdana"/>
              </a:rPr>
              <a:t>Erasmus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D2DF-9A9A-4092-A846-1342C2600A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c.europa.eu/programmes/erasmus-plus/calls/index_fr.htm" TargetMode="External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ec.europa.eu/programmes/erasmus-plus/index_fr.htm" TargetMode="External"/><Relationship Id="rId3" Type="http://schemas.openxmlformats.org/officeDocument/2006/relationships/hyperlink" Target="http://eacea.ec.europa.eu/erasmus-plus/funding_en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140360" y="1268280"/>
            <a:ext cx="4535280" cy="20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ffd624"/>
                </a:solidFill>
                <a:latin typeface="Verdana"/>
              </a:rPr>
              <a:t>Erasmus+</a:t>
            </a:r>
            <a:endParaRPr b="1" lang="en-US" sz="4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4560" y="3809880"/>
            <a:ext cx="4419720" cy="22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Verdana"/>
              </a:rPr>
              <a:t>Collaborer avec des établissements d’enseignement supérieur européen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4284720" y="6237360"/>
            <a:ext cx="647640" cy="647640"/>
          </a:xfrm>
          <a:prstGeom prst="rect">
            <a:avLst/>
          </a:prstGeom>
          <a:solidFill>
            <a:srgbClr val="009ec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BE" sz="800" spc="-1" strike="noStrike">
                <a:solidFill>
                  <a:srgbClr val="ffffff"/>
                </a:solidFill>
                <a:latin typeface="Verdana"/>
              </a:rPr>
              <a:t>Erasmus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Content Placeholder 3" descr=""/>
          <p:cNvPicPr/>
          <p:nvPr/>
        </p:nvPicPr>
        <p:blipFill>
          <a:blip r:embed="rId1"/>
          <a:stretch/>
        </p:blipFill>
        <p:spPr>
          <a:xfrm>
            <a:off x="4599000" y="3068640"/>
            <a:ext cx="458136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Masters conjoints en bref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20570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Dans la continuité d'Erasmus Mundu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Des masters conjoints d'excellence proposés par des consortia des EES des pays programme et des pays partenaires pour attirer les meilleurs étudiants du monde entier grâce à des bourses de haut niveau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350 cours de niveau masters conjoints  sélectionnés pour 2014-2020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Environ 30 000 étudiants et personnel sur 7 anné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C846-83F4-41FA-A1E1-ADC975CF48C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6" descr=""/>
          <p:cNvPicPr/>
          <p:nvPr/>
        </p:nvPicPr>
        <p:blipFill>
          <a:blip r:embed="rId1"/>
          <a:srcRect l="0" t="0" r="3012" b="0"/>
          <a:stretch/>
        </p:blipFill>
        <p:spPr>
          <a:xfrm>
            <a:off x="-181080" y="-27000"/>
            <a:ext cx="10017360" cy="688500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5256000" cy="3600360"/>
          </a:xfrm>
          <a:prstGeom prst="rect">
            <a:avLst/>
          </a:prstGeom>
          <a:solidFill>
            <a:srgbClr val="bfbfbf">
              <a:alpha val="58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c3c90"/>
                </a:solidFill>
                <a:latin typeface="Verdana"/>
              </a:rPr>
              <a:t>Renforcement des capacités pour l'enseignement supérieur</a:t>
            </a:r>
            <a:endParaRPr b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57A6-453A-469E-A676-DA8AB95AEAB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f5494"/>
                </a:solidFill>
                <a:latin typeface="Verdana"/>
              </a:rPr>
              <a:t>Renforcement des capacités de l'enseignement supérieur: objectif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2362320"/>
            <a:ext cx="822960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f5494"/>
                </a:solidFill>
                <a:latin typeface="Verdana"/>
              </a:rPr>
              <a:t>Renforcer les capacités et aider à moderniser les établissements d'enseignement supérieur dans les pays partenaires, afin d'assurer un impact structurel, de longue durée: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181080" indent="8712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Soutenir la modernisation &amp; internationalisation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181080" indent="8712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Améliorer la qualité des enseignement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181080" indent="8712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Améliorer le niveau de compétences et d'aptitude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181080" indent="8712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Améliorer la gestion et la gouvernance dans les EES(s)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181080" indent="8712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f5494"/>
                </a:solidFill>
                <a:latin typeface="Verdana"/>
              </a:rPr>
              <a:t>Promouvoir les contacts de personne à personne et la compréhension interculturelle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5B0F-087C-4573-8962-6407601A4E4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24000" y="1523880"/>
            <a:ext cx="82296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f5494"/>
                </a:solidFill>
                <a:latin typeface="Verdana"/>
              </a:rPr>
              <a:t>Renforcement des capacités: </a:t>
            </a:r>
            <a:br>
              <a:rPr sz="2800"/>
            </a:br>
            <a:r>
              <a:rPr b="1" lang="fr-FR" sz="2800" spc="-1" strike="noStrike">
                <a:solidFill>
                  <a:srgbClr val="0f5494"/>
                </a:solidFill>
                <a:latin typeface="Verdana"/>
              </a:rPr>
              <a:t>continuer le travail des anciens programme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468360" y="2743200"/>
          <a:ext cx="8280360" cy="3186000"/>
        </p:xfrm>
        <a:graphic>
          <a:graphicData uri="http://schemas.openxmlformats.org/drawingml/2006/table">
            <a:tbl>
              <a:tblPr/>
              <a:tblGrid>
                <a:gridCol w="3311640"/>
                <a:gridCol w="1223640"/>
                <a:gridCol w="3745080"/>
              </a:tblGrid>
              <a:tr h="1131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Avant 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Erasmus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28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2014-20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054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empus</a:t>
                      </a: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LFA</a:t>
                      </a:r>
                      <a:br>
                        <a:rPr sz="2800"/>
                      </a:b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Eduli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BE" sz="2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sia-Li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rojets de renforcement des capacité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46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8C9A-4D14-4D85-BDEA-E1977957EB1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3" descr=""/>
          <p:cNvPicPr/>
          <p:nvPr/>
        </p:nvPicPr>
        <p:blipFill>
          <a:blip r:embed="rId1"/>
          <a:srcRect l="3979" t="0" r="0" b="0"/>
          <a:stretch/>
        </p:blipFill>
        <p:spPr>
          <a:xfrm>
            <a:off x="-181080" y="-100080"/>
            <a:ext cx="10022040" cy="695808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42560" y="4724280"/>
            <a:ext cx="4032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ffffff"/>
                </a:solidFill>
                <a:latin typeface="Verdana"/>
              </a:rPr>
              <a:t>Activités</a:t>
            </a:r>
            <a:br>
              <a:rPr sz="4000"/>
            </a:br>
            <a:r>
              <a:rPr b="1" lang="fr-BE" sz="4000" spc="-1" strike="noStrike">
                <a:solidFill>
                  <a:srgbClr val="ffffff"/>
                </a:solidFill>
                <a:latin typeface="Verdana"/>
              </a:rPr>
              <a:t>Jean Monnet</a:t>
            </a:r>
            <a:endParaRPr b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465C-6498-436D-946E-23E691606DC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Jean Monnet en bref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2060640"/>
            <a:ext cx="82296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Axé sur les études de l'UE pour promouvoir l'excellence dans l'enseignement et la recherche dans le processus de l'intégration européenne dans différentes disciplin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Objectif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Doter les étudiants et les jeunes professionnels d'une connaissance de l'U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Stimuler l'enseignement et la recherche sur l'Union européenne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Encourager le dialogue entre l'Union européenne et le monde de l'enseignement supérieur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2238-37AD-4CD7-80B4-8CFB1E186E6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" descr=""/>
          <p:cNvPicPr/>
          <p:nvPr/>
        </p:nvPicPr>
        <p:blipFill>
          <a:blip r:embed="rId1"/>
          <a:stretch/>
        </p:blipFill>
        <p:spPr>
          <a:xfrm>
            <a:off x="-36360" y="-171360"/>
            <a:ext cx="9216720" cy="70293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" descr=""/>
          <p:cNvPicPr/>
          <p:nvPr/>
        </p:nvPicPr>
        <p:blipFill>
          <a:blip r:embed="rId2"/>
          <a:stretch/>
        </p:blipFill>
        <p:spPr>
          <a:xfrm flipH="1" rot="10396800">
            <a:off x="803160" y="337320"/>
            <a:ext cx="6977160" cy="653760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1"/>
          <p:cNvSpPr/>
          <p:nvPr/>
        </p:nvSpPr>
        <p:spPr>
          <a:xfrm>
            <a:off x="1187280" y="1700280"/>
            <a:ext cx="6888240" cy="40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24"/>
              </a:spcBef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1c3c90"/>
                </a:solidFill>
                <a:uFillTx/>
                <a:latin typeface="Arial"/>
              </a:rPr>
              <a:t>Masters Conjoints &amp; Mobilité de crédits</a:t>
            </a:r>
            <a:r>
              <a:rPr b="0" lang="en-GB" sz="2700" spc="-1" strike="noStrike">
                <a:solidFill>
                  <a:srgbClr val="1c3c9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1c3c90"/>
                </a:solidFill>
                <a:latin typeface="Arial"/>
              </a:rPr>
              <a:t>Uniquement EES dans les pays membres du programm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24"/>
              </a:spcBef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 u="sng">
                <a:solidFill>
                  <a:srgbClr val="1c3c90"/>
                </a:solidFill>
                <a:uFillTx/>
                <a:latin typeface="Arial"/>
              </a:rPr>
              <a:t>Renforcement des capacités&amp; Jean Monnet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1c3c90"/>
                </a:solidFill>
                <a:latin typeface="Arial"/>
              </a:rPr>
              <a:t>Pays membres du programme et pays partenaire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ZoneTexte 60"/>
          <p:cNvSpPr/>
          <p:nvPr/>
        </p:nvSpPr>
        <p:spPr>
          <a:xfrm>
            <a:off x="1463760" y="907920"/>
            <a:ext cx="4848120" cy="581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Verdana"/>
                <a:ea typeface="Arial"/>
              </a:rPr>
              <a:t>Qui peut candida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f5494"/>
                </a:solidFill>
                <a:latin typeface="Verdana"/>
              </a:rPr>
              <a:t>Appel à propositions - Délai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68000" y="22096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ec.europa.eu/programmes/erasmus-plus/calls/index_fr.htm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6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1042920" y="3068640"/>
          <a:ext cx="6837480" cy="2614680"/>
        </p:xfrm>
        <a:graphic>
          <a:graphicData uri="http://schemas.openxmlformats.org/drawingml/2006/table">
            <a:tbl>
              <a:tblPr/>
              <a:tblGrid>
                <a:gridCol w="3419640"/>
                <a:gridCol w="3417840"/>
              </a:tblGrid>
              <a:tr h="865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70c0"/>
                          </a:solidFill>
                          <a:latin typeface="Verdana Bold"/>
                          <a:ea typeface="Arial"/>
                        </a:rPr>
                        <a:t>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0070c0"/>
                          </a:solidFill>
                          <a:latin typeface="Verdana Bold"/>
                          <a:ea typeface="Arial"/>
                        </a:rPr>
                        <a:t>Délai de soumission des proj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63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1c3c90"/>
                          </a:solidFill>
                          <a:latin typeface="Verdana Bold"/>
                          <a:ea typeface="Arial"/>
                        </a:rPr>
                        <a:t>Renforcement des capacit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 Bold"/>
                          <a:ea typeface="Arial"/>
                        </a:rPr>
                        <a:t>10 février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372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1c3c90"/>
                          </a:solidFill>
                          <a:latin typeface="Verdana Bold"/>
                          <a:ea typeface="Arial"/>
                        </a:rPr>
                        <a:t>Jean M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 Bold"/>
                          <a:ea typeface="Arial"/>
                        </a:rPr>
                        <a:t>26 février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37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1c3c90"/>
                          </a:solidFill>
                          <a:latin typeface="Verdana Bold"/>
                          <a:ea typeface="Arial"/>
                        </a:rPr>
                        <a:t>Masters conj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 Bold"/>
                          <a:ea typeface="Arial"/>
                        </a:rPr>
                        <a:t>4 mars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372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1c3c90"/>
                          </a:solidFill>
                          <a:latin typeface="Verdana Bold"/>
                          <a:ea typeface="Arial"/>
                        </a:rPr>
                        <a:t>Mobilité de créd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 Bold"/>
                          <a:ea typeface="Arial"/>
                        </a:rPr>
                        <a:t>4 mars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4" descr=""/>
          <p:cNvPicPr/>
          <p:nvPr/>
        </p:nvPicPr>
        <p:blipFill>
          <a:blip r:embed="rId1"/>
          <a:stretch/>
        </p:blipFill>
        <p:spPr>
          <a:xfrm>
            <a:off x="5435640" y="4797360"/>
            <a:ext cx="3313080" cy="192744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8360" y="10666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Plus d' information: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539640" y="148392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Information pour Erasmus+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ec.europa.eu/programmes/erasmus-plus/index_fr.htm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Information pour Erasmus+ possibilités de financeme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http://eacea.ec.europa.eu/erasmus-plus/funding_e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	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8871-B498-42A0-A6C0-6F6B6A2FFE9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3" descr="thankyou3.jpg"/>
          <p:cNvPicPr/>
          <p:nvPr/>
        </p:nvPicPr>
        <p:blipFill>
          <a:blip r:embed="rId1"/>
          <a:stretch/>
        </p:blipFill>
        <p:spPr>
          <a:xfrm>
            <a:off x="392040" y="1268280"/>
            <a:ext cx="8170920" cy="5040360"/>
          </a:xfrm>
          <a:prstGeom prst="rect">
            <a:avLst/>
          </a:prstGeom>
          <a:ln w="0">
            <a:noFill/>
          </a:ln>
        </p:spPr>
      </p:pic>
      <p:sp>
        <p:nvSpPr>
          <p:cNvPr id="48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9EB8-63DC-4A06-8450-3DA9968420B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Qu'est-ce que Erasmus+ 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2421000"/>
            <a:ext cx="850752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le programme de l’UE dans les domaines de l’éducation, la formation, la jeunesse et du sport pour la période 2014-2020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85840" indent="-28584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Subventionne des programmes, des projets et des bourses individuell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85840" indent="-28584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285840" indent="-28584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Renforce la cooperation UE/UE et UE/internationa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Oval 19"/>
          <p:cNvGrpSpPr/>
          <p:nvPr/>
        </p:nvGrpSpPr>
        <p:grpSpPr>
          <a:xfrm>
            <a:off x="4280040" y="2230560"/>
            <a:ext cx="4174920" cy="3841560"/>
            <a:chOff x="4280040" y="2230560"/>
            <a:chExt cx="4174920" cy="3841560"/>
          </a:xfrm>
        </p:grpSpPr>
        <p:pic>
          <p:nvPicPr>
            <p:cNvPr id="388" name="Oval 19" descr=""/>
            <p:cNvPicPr/>
            <p:nvPr/>
          </p:nvPicPr>
          <p:blipFill>
            <a:blip r:embed="rId1"/>
            <a:stretch/>
          </p:blipFill>
          <p:spPr>
            <a:xfrm>
              <a:off x="4280040" y="2230560"/>
              <a:ext cx="4174920" cy="38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4937040" y="2808360"/>
              <a:ext cx="2867040" cy="26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0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A88B-13A8-4B1C-ABE0-1EF1BE3734F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Text Placeholder 4" descr=""/>
          <p:cNvPicPr/>
          <p:nvPr/>
        </p:nvPicPr>
        <p:blipFill>
          <a:blip r:embed="rId2"/>
          <a:stretch/>
        </p:blipFill>
        <p:spPr>
          <a:xfrm>
            <a:off x="4280040" y="1487520"/>
            <a:ext cx="4870440" cy="65232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7"/>
          <p:cNvSpPr/>
          <p:nvPr/>
        </p:nvSpPr>
        <p:spPr>
          <a:xfrm>
            <a:off x="498600" y="3325680"/>
            <a:ext cx="3035160" cy="276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8"/>
          <p:cNvSpPr/>
          <p:nvPr/>
        </p:nvSpPr>
        <p:spPr>
          <a:xfrm>
            <a:off x="345960" y="4424400"/>
            <a:ext cx="3611520" cy="2208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9"/>
          <p:cNvSpPr/>
          <p:nvPr/>
        </p:nvSpPr>
        <p:spPr>
          <a:xfrm>
            <a:off x="324000" y="3405240"/>
            <a:ext cx="1581120" cy="4762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bbe0e3"/>
            </a:solidFill>
            <a:miter/>
          </a:ln>
          <a:effectLst>
            <a:outerShdw dist="38183" dir="189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Verdana"/>
              </a:rPr>
              <a:t>Temp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10"/>
          <p:cNvSpPr/>
          <p:nvPr/>
        </p:nvSpPr>
        <p:spPr>
          <a:xfrm>
            <a:off x="2054160" y="2582640"/>
            <a:ext cx="2212920" cy="735480"/>
          </a:xfrm>
          <a:prstGeom prst="ellipse">
            <a:avLst/>
          </a:prstGeom>
          <a:solidFill>
            <a:srgbClr val="3166cf"/>
          </a:solidFill>
          <a:ln w="25560">
            <a:solidFill>
              <a:srgbClr val="bbe0e3"/>
            </a:solidFill>
            <a:miter/>
          </a:ln>
          <a:effectLst>
            <a:outerShdw dist="3816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ffffff"/>
                </a:solidFill>
                <a:latin typeface="Verdana"/>
              </a:rPr>
              <a:t>Pays industrialis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11"/>
          <p:cNvSpPr/>
          <p:nvPr/>
        </p:nvSpPr>
        <p:spPr>
          <a:xfrm>
            <a:off x="647640" y="2461320"/>
            <a:ext cx="1596960" cy="89280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bbe0e3"/>
            </a:solidFill>
            <a:miter/>
          </a:ln>
          <a:effectLst>
            <a:outerShdw dist="38160" dir="162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Erasm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Mund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12"/>
          <p:cNvSpPr/>
          <p:nvPr/>
        </p:nvSpPr>
        <p:spPr>
          <a:xfrm>
            <a:off x="3124080" y="3429000"/>
            <a:ext cx="833400" cy="735480"/>
          </a:xfrm>
          <a:prstGeom prst="ellipse">
            <a:avLst/>
          </a:prstGeom>
          <a:solidFill>
            <a:srgbClr val="3e6fd2"/>
          </a:solidFill>
          <a:ln w="25560">
            <a:solidFill>
              <a:srgbClr val="bbe0e3"/>
            </a:solidFill>
            <a:miter/>
          </a:ln>
          <a:effectLst>
            <a:outerShdw dist="3816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ffffff"/>
                </a:solidFill>
                <a:latin typeface="Verdana"/>
              </a:rPr>
              <a:t>Edu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13"/>
          <p:cNvSpPr/>
          <p:nvPr/>
        </p:nvSpPr>
        <p:spPr>
          <a:xfrm>
            <a:off x="2016000" y="3598200"/>
            <a:ext cx="992160" cy="477000"/>
          </a:xfrm>
          <a:prstGeom prst="ellipse">
            <a:avLst/>
          </a:prstGeom>
          <a:solidFill>
            <a:srgbClr val="0f5494"/>
          </a:solidFill>
          <a:ln w="25560">
            <a:solidFill>
              <a:srgbClr val="bbe0e3"/>
            </a:solidFill>
            <a:miter/>
          </a:ln>
          <a:effectLst>
            <a:outerShdw dist="3816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1" lang="fr-BE" sz="1600" spc="-1" strike="noStrike">
                <a:solidFill>
                  <a:srgbClr val="ffffff"/>
                </a:solidFill>
                <a:latin typeface="Verdana"/>
              </a:rPr>
              <a:t>Alfa</a:t>
            </a:r>
            <a:r>
              <a:rPr b="0" lang="fr-BE" sz="1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Oval 14"/>
          <p:cNvGrpSpPr/>
          <p:nvPr/>
        </p:nvGrpSpPr>
        <p:grpSpPr>
          <a:xfrm>
            <a:off x="304920" y="3895560"/>
            <a:ext cx="1620720" cy="773280"/>
            <a:chOff x="304920" y="3895560"/>
            <a:chExt cx="1620720" cy="773280"/>
          </a:xfrm>
        </p:grpSpPr>
        <p:pic>
          <p:nvPicPr>
            <p:cNvPr id="400" name="Oval 14" descr=""/>
            <p:cNvPicPr/>
            <p:nvPr/>
          </p:nvPicPr>
          <p:blipFill>
            <a:blip r:embed="rId3"/>
            <a:stretch/>
          </p:blipFill>
          <p:spPr>
            <a:xfrm>
              <a:off x="304920" y="3895560"/>
              <a:ext cx="162072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55480" y="4020840"/>
              <a:ext cx="1117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0000"/>
                  </a:solidFill>
                  <a:latin typeface="Verdana"/>
                </a:rPr>
                <a:t>Jeunesse en a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Oval 15"/>
          <p:cNvGrpSpPr/>
          <p:nvPr/>
        </p:nvGrpSpPr>
        <p:grpSpPr>
          <a:xfrm>
            <a:off x="1011240" y="6126120"/>
            <a:ext cx="2085840" cy="519120"/>
            <a:chOff x="1011240" y="6126120"/>
            <a:chExt cx="2085840" cy="519120"/>
          </a:xfrm>
        </p:grpSpPr>
        <p:pic>
          <p:nvPicPr>
            <p:cNvPr id="403" name="Oval 15" descr=""/>
            <p:cNvPicPr/>
            <p:nvPr/>
          </p:nvPicPr>
          <p:blipFill>
            <a:blip r:embed="rId4"/>
            <a:stretch/>
          </p:blipFill>
          <p:spPr>
            <a:xfrm>
              <a:off x="1011240" y="6126120"/>
              <a:ext cx="208584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1332000" y="6217920"/>
              <a:ext cx="144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600" spc="-1" strike="noStrike">
                  <a:solidFill>
                    <a:srgbClr val="000000"/>
                  </a:solidFill>
                  <a:latin typeface="Verdana"/>
                </a:rPr>
                <a:t>Comeni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Oval 16"/>
          <p:cNvGrpSpPr/>
          <p:nvPr/>
        </p:nvGrpSpPr>
        <p:grpSpPr>
          <a:xfrm>
            <a:off x="2017800" y="5211720"/>
            <a:ext cx="1798560" cy="469800"/>
            <a:chOff x="2017800" y="5211720"/>
            <a:chExt cx="1798560" cy="469800"/>
          </a:xfrm>
        </p:grpSpPr>
        <p:pic>
          <p:nvPicPr>
            <p:cNvPr id="406" name="Oval 16" descr=""/>
            <p:cNvPicPr/>
            <p:nvPr/>
          </p:nvPicPr>
          <p:blipFill>
            <a:blip r:embed="rId5"/>
            <a:stretch/>
          </p:blipFill>
          <p:spPr>
            <a:xfrm>
              <a:off x="2017800" y="5211720"/>
              <a:ext cx="17985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2292480" y="5294160"/>
              <a:ext cx="1244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000000"/>
                  </a:solidFill>
                  <a:latin typeface="Verdana"/>
                </a:rPr>
                <a:t>Grundtvi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Oval 17"/>
          <p:cNvGrpSpPr/>
          <p:nvPr/>
        </p:nvGrpSpPr>
        <p:grpSpPr>
          <a:xfrm>
            <a:off x="804960" y="4876920"/>
            <a:ext cx="1908000" cy="512640"/>
            <a:chOff x="804960" y="4876920"/>
            <a:chExt cx="1908000" cy="512640"/>
          </a:xfrm>
        </p:grpSpPr>
        <p:pic>
          <p:nvPicPr>
            <p:cNvPr id="409" name="Oval 17" descr=""/>
            <p:cNvPicPr/>
            <p:nvPr/>
          </p:nvPicPr>
          <p:blipFill>
            <a:blip r:embed="rId6"/>
            <a:stretch/>
          </p:blipFill>
          <p:spPr>
            <a:xfrm>
              <a:off x="804960" y="4876920"/>
              <a:ext cx="190800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1095480" y="4965480"/>
              <a:ext cx="132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600" spc="-1" strike="noStrike">
                  <a:solidFill>
                    <a:srgbClr val="000000"/>
                  </a:solidFill>
                  <a:latin typeface="Verdana"/>
                </a:rPr>
                <a:t>Erasm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Oval 18"/>
          <p:cNvGrpSpPr/>
          <p:nvPr/>
        </p:nvGrpSpPr>
        <p:grpSpPr>
          <a:xfrm>
            <a:off x="590400" y="5578560"/>
            <a:ext cx="1854360" cy="517320"/>
            <a:chOff x="590400" y="5578560"/>
            <a:chExt cx="1854360" cy="517320"/>
          </a:xfrm>
        </p:grpSpPr>
        <p:pic>
          <p:nvPicPr>
            <p:cNvPr id="412" name="Oval 18" descr=""/>
            <p:cNvPicPr/>
            <p:nvPr/>
          </p:nvPicPr>
          <p:blipFill>
            <a:blip r:embed="rId7"/>
            <a:stretch/>
          </p:blipFill>
          <p:spPr>
            <a:xfrm>
              <a:off x="590400" y="5578560"/>
              <a:ext cx="18543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873000" y="5668560"/>
              <a:ext cx="128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600" spc="-1" strike="noStrike">
                  <a:solidFill>
                    <a:srgbClr val="000000"/>
                  </a:solidFill>
                  <a:latin typeface="Verdana"/>
                </a:rPr>
                <a:t>Leonar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Oval 21"/>
          <p:cNvGrpSpPr/>
          <p:nvPr/>
        </p:nvGrpSpPr>
        <p:grpSpPr>
          <a:xfrm>
            <a:off x="4883040" y="2341440"/>
            <a:ext cx="2621160" cy="1505160"/>
            <a:chOff x="4883040" y="2341440"/>
            <a:chExt cx="2621160" cy="1505160"/>
          </a:xfrm>
        </p:grpSpPr>
        <p:pic>
          <p:nvPicPr>
            <p:cNvPr id="415" name="Oval 21" descr=""/>
            <p:cNvPicPr/>
            <p:nvPr/>
          </p:nvPicPr>
          <p:blipFill>
            <a:blip r:embed="rId8"/>
            <a:stretch/>
          </p:blipFill>
          <p:spPr>
            <a:xfrm>
              <a:off x="4883040" y="2341440"/>
              <a:ext cx="2621160" cy="15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5576760" y="2529720"/>
              <a:ext cx="1587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Verdana"/>
                </a:rPr>
                <a:t>Mobilité des individ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Oval 23"/>
          <p:cNvGrpSpPr/>
          <p:nvPr/>
        </p:nvGrpSpPr>
        <p:grpSpPr>
          <a:xfrm>
            <a:off x="4737240" y="5059440"/>
            <a:ext cx="2584440" cy="1854000"/>
            <a:chOff x="4737240" y="5059440"/>
            <a:chExt cx="2584440" cy="1854000"/>
          </a:xfrm>
        </p:grpSpPr>
        <p:pic>
          <p:nvPicPr>
            <p:cNvPr id="418" name="Oval 23" descr=""/>
            <p:cNvPicPr/>
            <p:nvPr/>
          </p:nvPicPr>
          <p:blipFill>
            <a:blip r:embed="rId9"/>
            <a:stretch/>
          </p:blipFill>
          <p:spPr>
            <a:xfrm>
              <a:off x="4737240" y="5059440"/>
              <a:ext cx="2584440" cy="18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5424480" y="5425920"/>
              <a:ext cx="1563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6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600" spc="-1" strike="noStrike">
                  <a:solidFill>
                    <a:srgbClr val="000000"/>
                  </a:solidFill>
                  <a:latin typeface="Verdana"/>
                </a:rPr>
                <a:t>Réforme des politiqu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Rectangle 24"/>
          <p:cNvSpPr/>
          <p:nvPr/>
        </p:nvSpPr>
        <p:spPr>
          <a:xfrm>
            <a:off x="2178000" y="2144160"/>
            <a:ext cx="1779480" cy="337320"/>
          </a:xfrm>
          <a:prstGeom prst="rect">
            <a:avLst/>
          </a:prstGeom>
          <a:solidFill>
            <a:srgbClr val="92d050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70c0"/>
                </a:solidFill>
                <a:latin typeface="Verdana"/>
              </a:rPr>
              <a:t>Interna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27"/>
          <p:cNvSpPr/>
          <p:nvPr/>
        </p:nvSpPr>
        <p:spPr>
          <a:xfrm>
            <a:off x="4572000" y="3487680"/>
            <a:ext cx="237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Verdana"/>
                <a:ea typeface="Arial"/>
              </a:rPr>
              <a:t>Erasmus</a:t>
            </a:r>
            <a:r>
              <a:rPr b="1" lang="fr-BE" sz="2400" spc="-1" strike="noStrike">
                <a:solidFill>
                  <a:srgbClr val="ffffff"/>
                </a:solidFill>
                <a:latin typeface="Verdana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28"/>
          <p:cNvSpPr/>
          <p:nvPr/>
        </p:nvSpPr>
        <p:spPr>
          <a:xfrm>
            <a:off x="3068280" y="4449600"/>
            <a:ext cx="842040" cy="3682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2d5ec1"/>
                </a:solidFill>
                <a:latin typeface="Verdana"/>
                <a:ea typeface="Arial"/>
              </a:rPr>
              <a:t>UE-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29"/>
          <p:cNvSpPr/>
          <p:nvPr/>
        </p:nvSpPr>
        <p:spPr>
          <a:xfrm>
            <a:off x="4867560" y="4341960"/>
            <a:ext cx="16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Verdana"/>
                <a:ea typeface="Arial"/>
              </a:rPr>
              <a:t>Jean Mon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30"/>
          <p:cNvSpPr/>
          <p:nvPr/>
        </p:nvSpPr>
        <p:spPr>
          <a:xfrm>
            <a:off x="5146920" y="4735440"/>
            <a:ext cx="7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Verdana"/>
                <a:ea typeface="Arial"/>
              </a:rPr>
              <a:t>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4"/>
          <p:cNvSpPr/>
          <p:nvPr/>
        </p:nvSpPr>
        <p:spPr>
          <a:xfrm>
            <a:off x="250920" y="2133720"/>
            <a:ext cx="3544920" cy="19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5"/>
          <p:cNvSpPr/>
          <p:nvPr/>
        </p:nvSpPr>
        <p:spPr>
          <a:xfrm>
            <a:off x="647640" y="25401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25"/>
          <p:cNvSpPr/>
          <p:nvPr/>
        </p:nvSpPr>
        <p:spPr>
          <a:xfrm>
            <a:off x="324000" y="2133720"/>
            <a:ext cx="3633480" cy="2125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3"/>
          <p:cNvSpPr/>
          <p:nvPr/>
        </p:nvSpPr>
        <p:spPr>
          <a:xfrm>
            <a:off x="6951600" y="3836880"/>
            <a:ext cx="1581120" cy="797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4"/>
          <p:cNvSpPr/>
          <p:nvPr/>
        </p:nvSpPr>
        <p:spPr>
          <a:xfrm>
            <a:off x="6702480" y="3470400"/>
            <a:ext cx="2079720" cy="1306440"/>
          </a:xfrm>
          <a:prstGeom prst="ellipse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5"/>
          <p:cNvSpPr/>
          <p:nvPr/>
        </p:nvSpPr>
        <p:spPr>
          <a:xfrm>
            <a:off x="6737400" y="362916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Verdana"/>
              </a:rPr>
              <a:t>Coopération institution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ight Arrow 6"/>
          <p:cNvSpPr/>
          <p:nvPr/>
        </p:nvSpPr>
        <p:spPr>
          <a:xfrm>
            <a:off x="3828960" y="4027320"/>
            <a:ext cx="746280" cy="613080"/>
          </a:xfrm>
          <a:prstGeom prst="rightArrow">
            <a:avLst>
              <a:gd name="adj1" fmla="val 50000"/>
              <a:gd name="adj2" fmla="val 50060"/>
            </a:avLst>
          </a:prstGeom>
          <a:solidFill>
            <a:srgbClr val="0079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Placeholder 2"/>
          <p:cNvSpPr/>
          <p:nvPr/>
        </p:nvSpPr>
        <p:spPr>
          <a:xfrm>
            <a:off x="498600" y="1494000"/>
            <a:ext cx="4039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2007-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219640" y="1125360"/>
            <a:ext cx="3240000" cy="18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Un seul appel à propositions pour le programme en 2015</a:t>
            </a:r>
            <a:br>
              <a:rPr sz="2000"/>
            </a:b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06/10/2014</a:t>
            </a:r>
            <a:br>
              <a:rPr sz="2000"/>
            </a:br>
            <a:br>
              <a:rPr sz="2000"/>
            </a:b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EAC/A04/2014 </a:t>
            </a:r>
            <a:br>
              <a:rPr sz="2000"/>
            </a:b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34" name="Picture 14" descr=""/>
          <p:cNvPicPr/>
          <p:nvPr/>
        </p:nvPicPr>
        <p:blipFill>
          <a:blip r:embed="rId1"/>
          <a:stretch/>
        </p:blipFill>
        <p:spPr>
          <a:xfrm>
            <a:off x="-15840" y="1341360"/>
            <a:ext cx="4860720" cy="2879640"/>
          </a:xfrm>
          <a:prstGeom prst="rect">
            <a:avLst/>
          </a:prstGeom>
          <a:ln w="9360">
            <a:solidFill>
              <a:srgbClr val="72bfc5"/>
            </a:solidFill>
            <a:miter/>
          </a:ln>
        </p:spPr>
      </p:pic>
      <p:pic>
        <p:nvPicPr>
          <p:cNvPr id="435" name="Picture 15" descr=""/>
          <p:cNvPicPr/>
          <p:nvPr/>
        </p:nvPicPr>
        <p:blipFill>
          <a:blip r:embed="rId2"/>
          <a:stretch/>
        </p:blipFill>
        <p:spPr>
          <a:xfrm>
            <a:off x="5940360" y="3166920"/>
            <a:ext cx="2314800" cy="3219480"/>
          </a:xfrm>
          <a:prstGeom prst="rect">
            <a:avLst/>
          </a:prstGeom>
          <a:ln w="0">
            <a:noFill/>
          </a:ln>
        </p:spPr>
      </p:pic>
      <p:sp>
        <p:nvSpPr>
          <p:cNvPr id="436" name="Title 1"/>
          <p:cNvSpPr/>
          <p:nvPr/>
        </p:nvSpPr>
        <p:spPr>
          <a:xfrm>
            <a:off x="395280" y="4365720"/>
            <a:ext cx="53640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680" indent="-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Complété p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le GUIDE DU PROGRAMME ERASMUS+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f5494"/>
                </a:solidFill>
                <a:latin typeface="Verdana"/>
              </a:rPr>
              <a:t>Coopération internationale entre les pays membres du programme et les pays partenaires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324000" y="2565360"/>
          <a:ext cx="8424720" cy="4100400"/>
        </p:xfrm>
        <a:graphic>
          <a:graphicData uri="http://schemas.openxmlformats.org/drawingml/2006/table">
            <a:tbl>
              <a:tblPr/>
              <a:tblGrid>
                <a:gridCol w="4437000"/>
                <a:gridCol w="3987720"/>
              </a:tblGrid>
              <a:tr h="792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ays membres du program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ays partenai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0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États membres de l'UE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utriche, Belgique, Bulgarie, Croatie, Chypre, République tchèque, Danemark, Estonie, Finlande, France, Allemagne, Grèce, Hongrie, Irlande, Lettonie, Italie, Lituanie, Luxembourg, Malte, Pays-Bas, Pologne, Portugal, Roumanie, Slovakie, Slovénie, Espagne, Suède, Royaume-U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utres pays programm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slande, Liechtenstein, Norvège, Ancienne Republique yougoslave de Macedoine, Turqui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ous les autres pays à travers le mo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43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5F59-EF1C-4E8C-842F-3A3FBEBBBC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68000" y="1341360"/>
            <a:ext cx="849636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4 Actions principal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7200" y="2590560"/>
            <a:ext cx="822960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" indent="-27000">
              <a:spcBef>
                <a:spcPts val="799"/>
              </a:spcBef>
              <a:buClr>
                <a:srgbClr val="0f54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5494"/>
                </a:solidFill>
                <a:latin typeface="Verdana"/>
              </a:rPr>
              <a:t>Mobilité de crédits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 lvl="1" marL="27000" indent="-27000">
              <a:spcBef>
                <a:spcPts val="799"/>
              </a:spcBef>
              <a:buClr>
                <a:srgbClr val="0f54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f5494"/>
                </a:solidFill>
                <a:latin typeface="Verdana"/>
              </a:rPr>
              <a:t>Masters conjoint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  <a:p>
            <a:pPr lvl="1" marL="27000" indent="-27000">
              <a:spcBef>
                <a:spcPts val="799"/>
              </a:spcBef>
              <a:buClr>
                <a:srgbClr val="0f54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f5494"/>
                </a:solidFill>
                <a:latin typeface="Verdana"/>
              </a:rPr>
              <a:t>Renforcement des capacités pour l'enseignement supérieur (ex-Tempus)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  <a:p>
            <a:pPr lvl="1" marL="27000" indent="-27000">
              <a:spcBef>
                <a:spcPts val="799"/>
              </a:spcBef>
              <a:buClr>
                <a:srgbClr val="0f54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f5494"/>
                </a:solidFill>
                <a:latin typeface="Verdana"/>
              </a:rPr>
              <a:t>Activités Jean Monnet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2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02C8-D579-4176-8F10-4B40B4A8C72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4" descr=""/>
          <p:cNvPicPr/>
          <p:nvPr/>
        </p:nvPicPr>
        <p:blipFill>
          <a:blip r:embed="rId1"/>
          <a:stretch/>
        </p:blipFill>
        <p:spPr>
          <a:xfrm>
            <a:off x="-252360" y="0"/>
            <a:ext cx="10296360" cy="686448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067280" y="2852280"/>
            <a:ext cx="446544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0f5494"/>
                </a:solidFill>
                <a:latin typeface="Verdana"/>
              </a:rPr>
              <a:t>Mobilité de crédits</a:t>
            </a:r>
            <a:br>
              <a:rPr sz="4000"/>
            </a:br>
            <a:endParaRPr b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7894-F58F-4F11-BD96-672A78DBD44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6836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Mobilité de crédits en bref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57200" y="2362320"/>
            <a:ext cx="8229600" cy="38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Des études à court terme à l'étranger qui comptent pour la reconnaissance d'un diplôme dans le pays d'origine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Ouverture internationale d'Erasmu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Volet international pour financer 135 000 bourses pour la mobilité avec les pays partenaires (2014-2020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Mobilité pour les niveaux "licence" (Bachelor), Master et doctorat - et pour le personn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AA76-C6FB-48C2-8779-093D6799886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3" descr=""/>
          <p:cNvPicPr/>
          <p:nvPr/>
        </p:nvPicPr>
        <p:blipFill>
          <a:blip r:embed="rId1"/>
          <a:srcRect l="-3908" t="0" r="2645" b="0"/>
          <a:stretch/>
        </p:blipFill>
        <p:spPr>
          <a:xfrm>
            <a:off x="-560520" y="17640"/>
            <a:ext cx="9825120" cy="684036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-108000" y="907920"/>
            <a:ext cx="4680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ffffff"/>
                </a:solidFill>
                <a:latin typeface="Verdana"/>
              </a:rPr>
              <a:t>Masters conjoints</a:t>
            </a:r>
            <a:endParaRPr b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8DE9-39A0-49D1-8496-0351EF53B6C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4:05:48Z</dcterms:created>
  <dc:creator>lenain</dc:creator>
  <dc:description/>
  <dc:language>en-US</dc:language>
  <cp:lastModifiedBy>Eva Valle</cp:lastModifiedBy>
  <cp:lastPrinted>2014-04-23T13:58:44Z</cp:lastPrinted>
  <dcterms:modified xsi:type="dcterms:W3CDTF">2014-12-02T21:44:08Z</dcterms:modified>
  <cp:revision>374</cp:revision>
  <dc:subject/>
  <dc:title>Slide 1</dc:title>
</cp:coreProperties>
</file>