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4"/>
          </p:nvPr>
        </p:nvSpPr>
        <p:spPr>
          <a:xfrm>
            <a:off x="380664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5C7-BEA3-48C0-BB4F-4B9172213CD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896400" y="741240"/>
            <a:ext cx="492444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5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6"/>
          </p:nvPr>
        </p:nvSpPr>
        <p:spPr>
          <a:xfrm>
            <a:off x="380664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846-3D2A-42E1-966D-6401EFA3D8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FD7E-7CF6-487D-826E-7E5D8A1DA6A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7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895-3FA3-4D68-A916-238E73DA5A0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rganisation Support = 350 EUR per participa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Living Allowance = monthly unit cost for students or daily unit cost for staff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ravel = unit cost based on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gramme Country beneficiaries will receive the entire budget and can make flexible arrangements with their Partner HEIs on how to manage the budget – this should be encoded in the I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E1DC-CD5A-42E6-9370-6600F450AD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7E9-AD7F-4C72-8943-2CE83ACA9E8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CB98-BB01-4F29-B9FF-DFBB9794C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580-694B-4354-8F58-7954A2E5554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es pays Programme sont les 28 pays de l'UE + la Norvège, l'Islande, le Liechtenstein, la Turquie et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'Ancienne République yougoslave de Macédoine, c'est-à-dire tous les pays qui contribuent financièrement au programme et ont une Agence nationale pour le gérer.  Les pays Partenaires sont tous les autres pays à travers le mo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24D6-C21F-485D-AD05-EBD9B3E98D4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0E4-6FF1-4DC5-8A05-3390D6AB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DA6-F7D6-466A-B489-7FD2B99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F303C-661A-4A65-8B70-EFA9C350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0C95A-F6E4-4468-A72C-BC4107C4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40C05-58F9-4775-A958-70FF40C4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AAF33-1E70-4F15-A822-F1986D22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3BC89-D07C-4E0D-8C75-DC32326E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E1BB9-EF87-4DF2-985B-5232B8BE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DABA3A-9294-459D-9464-CEB189E3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F9DC7-EF5F-479F-8CF6-4176291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322E0-5931-4EBC-A37B-9235B7267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AA2-12ED-4482-B8EA-E8F3AC7F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577-F585-4B20-9AFD-2A33024C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348-F4E5-42A9-BD83-ED7CF8FA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CD0-EF77-47E5-BBE8-3B430EC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3A5B-B634-4D21-BCF7-02F41C4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69D8-65C5-4421-940F-3F86BD7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BD2-C28B-41C2-9636-105F0B9D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791-D362-40B5-9E13-DBF2962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48A2-6D51-486D-BF34-5968107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D73-BD47-4F49-80C8-77FA5DF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41CA-B52E-489B-8DD4-EB616C6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EE08-8FA7-4014-9A34-FECD942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1A23-14A1-4DB2-9BD2-D003C41C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9F1-329D-4BF5-83AF-E3292CCD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60EE-3B81-4943-9A9E-EEA39D59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20091-E4FB-4F77-A863-83F2E9690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53669-671E-4F33-A514-6E6A6A1E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EF170-38B0-42DF-9762-E5C7736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F685F-E97F-4B01-97E9-33FB3AA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DC15E-8F6E-49FA-A54B-158C3A6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6FF-AF5A-4C74-8DDD-E573A59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45301-658B-4CC4-9792-8128C9DF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0B25D-DCC3-49B2-A0BC-EF13AE46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D8939-C12E-4C3F-B170-A2EC4A2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C387C-256B-47F0-A3DE-E7B3318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64094-481C-4390-8FF0-407D79C4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315CC-34D2-4D72-ACE0-F0E66CE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BAB2D-596A-4DAC-B0F7-CF1D73251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2C5D1-486D-4D3C-8308-3D209E6C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31F9E-A18D-4412-ACC7-B8882C8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ACBF7-BD21-4C60-B0E6-6B2362A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8FB-2234-4F49-9016-8B558F1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BC057-7B69-430A-9BD3-8903056B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C005D-3F3C-4EA6-88B0-728A24D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438C5-3C34-47E4-8BA7-F547CFCD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63182-49AC-4DEA-A122-8B8463F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E791B-DD69-4EDA-850B-C02592A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C8512-AC16-4F95-B4AE-208C582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D9201F-B383-4376-B6DA-E057C67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92AF6-D2E3-45CA-B298-B06EFE5E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ABC8E-A9BB-4EEF-B87B-E8FAE1CD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8D49E-AF70-4E83-A718-C95A9FAC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CCB-AE0B-432C-89B9-CD79CE73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A867B-6D17-4211-8FF0-D4977AA3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9A5CD-FE98-4459-BCA6-5113F097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F427F-D443-4A77-8345-6D35FD9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81B29-ECCF-4790-819E-19982FD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38506-39D3-4BF7-88AE-522C7085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A00E8-35AB-4E8B-9FC3-D91139C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8C36F-9AFC-4DAB-94F2-B812B99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65E53-9DB5-4EA5-927E-4D90048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1C4B9-DDD4-4B7D-8614-DF0F356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ECD09-C3D0-4D56-8E36-C9140834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201-69AD-451D-BB44-245D81F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8EA57-E9E0-429B-8095-04B55913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9DAD4-7DF7-4EAD-B9E6-93CE8E743D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8B60C-94DE-44D4-A479-0B0173B364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DB7A3-63C9-42AB-B29D-FADE152AC4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948333-4E5F-4AAC-91C2-9D6176485F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CF1B9-2197-409C-934A-A32783BCA0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F8CCF-F282-44FA-B9B0-12586F01E9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FD6AB-8725-44C4-A5F0-752B4226E6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10AB4-5136-4FF8-8B00-74FE10A7F9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83A76-882A-4F9D-9EB6-06DD8D806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90A-C18F-4DA8-B21C-77E632D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88A41-F8BA-4165-AB28-9038DB1633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7BC66-AB67-4D65-89C0-5DB30D1B9C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AA17E-932C-45A5-BAC5-F6CD73D881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E23C2-76E7-4EA8-A182-BEE131FF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98D27-F865-495A-8478-B329BE47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3BA56-B6E9-4DC1-B31E-CE0B784D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225D6-2404-4F00-9EA9-0A856C0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9D348-A4C9-47CF-A84D-C566D58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560931-4220-4C88-B011-99E7381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5FFFC-F331-4587-A6CE-2012238E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887-9368-4B4F-A40C-59FCF8D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DA6449-AFAE-4197-8583-592A2940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645D5-717B-4DA9-8A90-D18AAFB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F661C-35B2-4704-B89D-DC9B84A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85D66-C668-4452-8486-61D7095E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9A85F-BCBD-49DE-A83F-C553A39D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9E21-D0FC-4BAC-ABEA-FB8D65ABE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BFDA-EFF7-4360-8A9F-9794DF5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5E1D0-4E61-47C4-B91F-7DE3834C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397ED-F633-485F-AE42-249B61E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1310-112F-4FF8-A0D9-0D12AC7F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0A3-B7B9-4372-886A-F2E3E77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1849F-1B60-4951-8C7F-1D58B6C7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E317-CC37-44A1-8208-949444A6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1AD6-1B71-47EB-B7F1-50DF58D8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A1750-DDA1-49CB-B2DB-270B6BD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E404-E6A4-4B62-9C41-A9E1712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BAC9-218A-441E-94CF-681D50A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20D9-8824-462D-A3E5-A7E77DAA6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299D5-E2DE-481E-8D9A-F38F96AFD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27114-DE2A-4596-8AC0-3CDFDD1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7E7215-19D6-4FC3-8C66-18D3237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899-8697-4AC3-B533-FD304BE369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0B7-EC5A-45BF-8FCA-62FED6E56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634-CB76-4071-9F50-F0D2B03C3B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9B7-0FB8-4F4F-A3BF-EFA481B5A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C4CE-F919-4B7B-A974-A995779B55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ducation </a:t>
            </a:r>
            <a:br>
              <a:rPr sz="1400"/>
            </a:b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nd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F0F-8B6A-4783-91E9-FE574D7E0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E862-80AD-4A22-872A-76D91EDEBC51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A58-BCE9-4A03-8021-2C0DB617B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erasmus_mundus_ppt_cover.jpg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F77-DAF4-41B5-99E3-23CEA971DB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B25-36B7-438B-88ED-A98C06588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programmes/erasmus-plus/calls/index_fr.htm" TargetMode="External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ec.europa.eu/programmes/erasmus-plus/index_fr.htm" TargetMode="External"/><Relationship Id="rId3" Type="http://schemas.openxmlformats.org/officeDocument/2006/relationships/hyperlink" Target="http://eacea.ec.europa.eu/erasmus-plus/funding_en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40360" y="1268280"/>
            <a:ext cx="45352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rasmus+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4560" y="3809880"/>
            <a:ext cx="441972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Verdana"/>
              </a:rPr>
              <a:t>Collaborer avec des établissements d’enseignement supérieur européen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284720" y="6237360"/>
            <a:ext cx="647640" cy="64764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4599000" y="3068640"/>
            <a:ext cx="4581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sters conjoin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0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Dans la continuité d'Erasmus Mundu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masters conjoints d'excellence proposés par des consortia des EES des pays programme et des pays partenaires pour attirer les meilleurs étudiants du monde entier grâce à des bourses de haut nivea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350 cours de niveau masters conjoints  sélectionnés pour 2014-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nviron 30 000 étudiants et personnel sur 7 anné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6B2-0ECD-4CCD-9742-BC4C88D938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"/>
          <p:cNvPicPr/>
          <p:nvPr/>
        </p:nvPicPr>
        <p:blipFill>
          <a:blip r:embed="rId1"/>
          <a:srcRect l="0" t="0" r="3012" b="0"/>
          <a:stretch/>
        </p:blipFill>
        <p:spPr>
          <a:xfrm>
            <a:off x="-181080" y="-27000"/>
            <a:ext cx="10017360" cy="6885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256000" cy="3600360"/>
          </a:xfrm>
          <a:prstGeom prst="rect">
            <a:avLst/>
          </a:prstGeom>
          <a:solidFill>
            <a:srgbClr val="bfbfbf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c3c90"/>
                </a:solidFill>
                <a:latin typeface="Verdana"/>
              </a:rPr>
              <a:t>Renforcement des capacités pour l'enseignement supérieur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DBF-4799-4340-9187-1B0DDD43E3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nforcement des capacités de l'enseignement supérieur: objectif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23623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Renforcer les capacités et aider à moderniser les établissements d'enseignement supérieur dans les pays partenaires, afin d'assurer un impact structurel, de longue duré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utenir la modernisation &amp; internationalis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a qualité des enseigne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e niveau de compétences et d'aptitud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a gestion et la gouvernance dans les EES(s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Promouvoir les contacts de personne à personne et la compréhension interculturel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2EA-2B1D-4622-A852-9E2B982F81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4000" y="152388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Renforcement des capacités: 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ontinuer le travail des anciens program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68360" y="2743200"/>
          <a:ext cx="8280360" cy="3186000"/>
        </p:xfrm>
        <a:graphic>
          <a:graphicData uri="http://schemas.openxmlformats.org/drawingml/2006/table">
            <a:tbl>
              <a:tblPr/>
              <a:tblGrid>
                <a:gridCol w="3311640"/>
                <a:gridCol w="1223640"/>
                <a:gridCol w="374508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vant 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Erasmus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014-2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5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emp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FA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du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ia-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jets de renforcement des capaci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4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CF26-4567-4B4D-9507-4BFC3ACBE0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"/>
          <p:cNvPicPr/>
          <p:nvPr/>
        </p:nvPicPr>
        <p:blipFill>
          <a:blip r:embed="rId1"/>
          <a:srcRect l="3979" t="0" r="0" b="0"/>
          <a:stretch/>
        </p:blipFill>
        <p:spPr>
          <a:xfrm>
            <a:off x="-181080" y="-100080"/>
            <a:ext cx="10022040" cy="69580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4724280"/>
            <a:ext cx="403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Activité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211-0E24-4378-B529-919E28D393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20606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Axé sur les études de l'UE pour promouvoir l'excellence dans l'enseignement et la recherche dans le processus de l'intégration européenne dans différentes disciplin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bjectif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oter les étudiants et les jeunes professionnels d'une connaissance de l'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timuler l'enseignement et la recherche sur l'Union européen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ncourager le dialogue entre l'Union européenne et le monde de l'enseignement supérieu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7B5-E1F5-4B4B-ABE6-FA274D5BBC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-36360" y="-171360"/>
            <a:ext cx="9216720" cy="7029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 flipH="1" rot="10396800">
            <a:off x="803160" y="337320"/>
            <a:ext cx="6977160" cy="65376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"/>
          <p:cNvSpPr/>
          <p:nvPr/>
        </p:nvSpPr>
        <p:spPr>
          <a:xfrm>
            <a:off x="1187280" y="1700280"/>
            <a:ext cx="688824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24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1c3c90"/>
                </a:solidFill>
                <a:uFillTx/>
                <a:latin typeface="Arial"/>
              </a:rPr>
              <a:t>Masters Conjoints &amp; Mobilité de crédits</a:t>
            </a: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Uniquement EES dans les pays membres du programm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1c3c90"/>
                </a:solidFill>
                <a:uFillTx/>
                <a:latin typeface="Arial"/>
              </a:rPr>
              <a:t>Renforcement des capacités&amp; Jean Monnet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Pays membres du programme et pays partenair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oneTexte 60"/>
          <p:cNvSpPr/>
          <p:nvPr/>
        </p:nvSpPr>
        <p:spPr>
          <a:xfrm>
            <a:off x="1463760" y="907920"/>
            <a:ext cx="48481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  <a:ea typeface="Arial"/>
              </a:rPr>
              <a:t>Qui peut candid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Appel à propositions - Délai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8000" y="22096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programmes/erasmus-plus/calls/index_fr.ht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042920" y="3068640"/>
          <a:ext cx="6837480" cy="2614680"/>
        </p:xfrm>
        <a:graphic>
          <a:graphicData uri="http://schemas.openxmlformats.org/drawingml/2006/table">
            <a:tbl>
              <a:tblPr/>
              <a:tblGrid>
                <a:gridCol w="3419640"/>
                <a:gridCol w="3417840"/>
              </a:tblGrid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Délai de soumission des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Renforcement des capac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10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Jean M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26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asters con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obilité de cré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3313080" cy="1927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lus d' informatio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964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programmes/erasmus-plus/index_fr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 possibilités de financ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eacea.ec.europa.eu/erasmus-plus/funding_e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4CA7-FF80-4012-A4DB-F78974D47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thankyou3.jpg"/>
          <p:cNvPicPr/>
          <p:nvPr/>
        </p:nvPicPr>
        <p:blipFill>
          <a:blip r:embed="rId1"/>
          <a:stretch/>
        </p:blipFill>
        <p:spPr>
          <a:xfrm>
            <a:off x="392040" y="1268280"/>
            <a:ext cx="8170920" cy="504036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D7E-DC07-4151-952E-F3B8E4F4D2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Qu'est-ce que Erasmus+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421000"/>
            <a:ext cx="8507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gramme de l’UE dans les domaines de l’éducation, la formation, la jeunesse et du sport pour la période 2014-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bventionne des programmes, des projets et des bourses individuel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nforce la cooperation UE/UE et UE/internat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Oval 19"/>
          <p:cNvGrpSpPr/>
          <p:nvPr/>
        </p:nvGrpSpPr>
        <p:grpSpPr>
          <a:xfrm>
            <a:off x="4280040" y="2230560"/>
            <a:ext cx="4174920" cy="3841560"/>
            <a:chOff x="4280040" y="2230560"/>
            <a:chExt cx="4174920" cy="3841560"/>
          </a:xfrm>
        </p:grpSpPr>
        <p:pic>
          <p:nvPicPr>
            <p:cNvPr id="388" name="Oval 19" descr=""/>
            <p:cNvPicPr/>
            <p:nvPr/>
          </p:nvPicPr>
          <p:blipFill>
            <a:blip r:embed="rId1"/>
            <a:stretch/>
          </p:blipFill>
          <p:spPr>
            <a:xfrm>
              <a:off x="4280040" y="2230560"/>
              <a:ext cx="417492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937040" y="2808360"/>
              <a:ext cx="286704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982-91DD-4CF1-AB53-10B885AD60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ext Placeholder 4" descr=""/>
          <p:cNvPicPr/>
          <p:nvPr/>
        </p:nvPicPr>
        <p:blipFill>
          <a:blip r:embed="rId2"/>
          <a:stretch/>
        </p:blipFill>
        <p:spPr>
          <a:xfrm>
            <a:off x="4280040" y="1487520"/>
            <a:ext cx="4870440" cy="6523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498600" y="3325680"/>
            <a:ext cx="303516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45960" y="4424400"/>
            <a:ext cx="3611520" cy="220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324000" y="3405240"/>
            <a:ext cx="1581120" cy="4762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bbe0e3"/>
            </a:solidFill>
            <a:miter/>
          </a:ln>
          <a:effectLst>
            <a:outerShdw dist="38183" dir="189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Tem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2054160" y="2582640"/>
            <a:ext cx="2212920" cy="735480"/>
          </a:xfrm>
          <a:prstGeom prst="ellipse">
            <a:avLst/>
          </a:prstGeom>
          <a:solidFill>
            <a:srgbClr val="3166cf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Pays industrial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647640" y="2461320"/>
            <a:ext cx="1596960" cy="8928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bbe0e3"/>
            </a:solidFill>
            <a:miter/>
          </a:ln>
          <a:effectLst>
            <a:outerShdw dist="38160" dir="162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ra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Mun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3124080" y="3429000"/>
            <a:ext cx="833400" cy="735480"/>
          </a:xfrm>
          <a:prstGeom prst="ellipse">
            <a:avLst/>
          </a:prstGeom>
          <a:solidFill>
            <a:srgbClr val="3e6fd2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Edu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3"/>
          <p:cNvSpPr/>
          <p:nvPr/>
        </p:nvSpPr>
        <p:spPr>
          <a:xfrm>
            <a:off x="2016000" y="3598200"/>
            <a:ext cx="992160" cy="477000"/>
          </a:xfrm>
          <a:prstGeom prst="ellipse">
            <a:avLst/>
          </a:prstGeom>
          <a:solidFill>
            <a:srgbClr val="0f5494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Alfa</a:t>
            </a:r>
            <a:r>
              <a:rPr b="0" lang="fr-BE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Oval 14"/>
          <p:cNvGrpSpPr/>
          <p:nvPr/>
        </p:nvGrpSpPr>
        <p:grpSpPr>
          <a:xfrm>
            <a:off x="304920" y="3895560"/>
            <a:ext cx="1620720" cy="773280"/>
            <a:chOff x="304920" y="3895560"/>
            <a:chExt cx="1620720" cy="773280"/>
          </a:xfrm>
        </p:grpSpPr>
        <p:pic>
          <p:nvPicPr>
            <p:cNvPr id="400" name="Oval 14" descr=""/>
            <p:cNvPicPr/>
            <p:nvPr/>
          </p:nvPicPr>
          <p:blipFill>
            <a:blip r:embed="rId3"/>
            <a:stretch/>
          </p:blipFill>
          <p:spPr>
            <a:xfrm>
              <a:off x="304920" y="3895560"/>
              <a:ext cx="162072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55480" y="4020840"/>
              <a:ext cx="111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Verdana"/>
                </a:rPr>
                <a:t>Jeunesse en 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Oval 15"/>
          <p:cNvGrpSpPr/>
          <p:nvPr/>
        </p:nvGrpSpPr>
        <p:grpSpPr>
          <a:xfrm>
            <a:off x="1011240" y="6126120"/>
            <a:ext cx="2085840" cy="519120"/>
            <a:chOff x="1011240" y="6126120"/>
            <a:chExt cx="2085840" cy="519120"/>
          </a:xfrm>
        </p:grpSpPr>
        <p:pic>
          <p:nvPicPr>
            <p:cNvPr id="403" name="Oval 15" descr=""/>
            <p:cNvPicPr/>
            <p:nvPr/>
          </p:nvPicPr>
          <p:blipFill>
            <a:blip r:embed="rId4"/>
            <a:stretch/>
          </p:blipFill>
          <p:spPr>
            <a:xfrm>
              <a:off x="1011240" y="6126120"/>
              <a:ext cx="2085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332000" y="6217920"/>
              <a:ext cx="144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Comeni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Oval 16"/>
          <p:cNvGrpSpPr/>
          <p:nvPr/>
        </p:nvGrpSpPr>
        <p:grpSpPr>
          <a:xfrm>
            <a:off x="2017800" y="5211720"/>
            <a:ext cx="1798560" cy="469800"/>
            <a:chOff x="2017800" y="5211720"/>
            <a:chExt cx="1798560" cy="469800"/>
          </a:xfrm>
        </p:grpSpPr>
        <p:pic>
          <p:nvPicPr>
            <p:cNvPr id="406" name="Oval 16" descr=""/>
            <p:cNvPicPr/>
            <p:nvPr/>
          </p:nvPicPr>
          <p:blipFill>
            <a:blip r:embed="rId5"/>
            <a:stretch/>
          </p:blipFill>
          <p:spPr>
            <a:xfrm>
              <a:off x="2017800" y="5211720"/>
              <a:ext cx="1798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292480" y="5294160"/>
              <a:ext cx="12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Verdana"/>
                </a:rPr>
                <a:t>Grundtv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Oval 17"/>
          <p:cNvGrpSpPr/>
          <p:nvPr/>
        </p:nvGrpSpPr>
        <p:grpSpPr>
          <a:xfrm>
            <a:off x="804960" y="4876920"/>
            <a:ext cx="1908000" cy="512640"/>
            <a:chOff x="804960" y="4876920"/>
            <a:chExt cx="1908000" cy="512640"/>
          </a:xfrm>
        </p:grpSpPr>
        <p:pic>
          <p:nvPicPr>
            <p:cNvPr id="409" name="Oval 17" descr=""/>
            <p:cNvPicPr/>
            <p:nvPr/>
          </p:nvPicPr>
          <p:blipFill>
            <a:blip r:embed="rId6"/>
            <a:stretch/>
          </p:blipFill>
          <p:spPr>
            <a:xfrm>
              <a:off x="804960" y="4876920"/>
              <a:ext cx="19080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095480" y="4965480"/>
              <a:ext cx="13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Erasm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Oval 18"/>
          <p:cNvGrpSpPr/>
          <p:nvPr/>
        </p:nvGrpSpPr>
        <p:grpSpPr>
          <a:xfrm>
            <a:off x="590400" y="5578560"/>
            <a:ext cx="1854360" cy="517320"/>
            <a:chOff x="590400" y="5578560"/>
            <a:chExt cx="1854360" cy="517320"/>
          </a:xfrm>
        </p:grpSpPr>
        <p:pic>
          <p:nvPicPr>
            <p:cNvPr id="412" name="Oval 18" descr=""/>
            <p:cNvPicPr/>
            <p:nvPr/>
          </p:nvPicPr>
          <p:blipFill>
            <a:blip r:embed="rId7"/>
            <a:stretch/>
          </p:blipFill>
          <p:spPr>
            <a:xfrm>
              <a:off x="590400" y="5578560"/>
              <a:ext cx="1854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873000" y="5668560"/>
              <a:ext cx="12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Leonar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Oval 21"/>
          <p:cNvGrpSpPr/>
          <p:nvPr/>
        </p:nvGrpSpPr>
        <p:grpSpPr>
          <a:xfrm>
            <a:off x="4883040" y="2341440"/>
            <a:ext cx="2621160" cy="1505160"/>
            <a:chOff x="4883040" y="2341440"/>
            <a:chExt cx="2621160" cy="1505160"/>
          </a:xfrm>
        </p:grpSpPr>
        <p:pic>
          <p:nvPicPr>
            <p:cNvPr id="415" name="Oval 21" descr=""/>
            <p:cNvPicPr/>
            <p:nvPr/>
          </p:nvPicPr>
          <p:blipFill>
            <a:blip r:embed="rId8"/>
            <a:stretch/>
          </p:blipFill>
          <p:spPr>
            <a:xfrm>
              <a:off x="4883040" y="2341440"/>
              <a:ext cx="26211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576760" y="2529720"/>
              <a:ext cx="158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Mobilité des indivi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Oval 23"/>
          <p:cNvGrpSpPr/>
          <p:nvPr/>
        </p:nvGrpSpPr>
        <p:grpSpPr>
          <a:xfrm>
            <a:off x="4737240" y="5059440"/>
            <a:ext cx="2584440" cy="1854000"/>
            <a:chOff x="4737240" y="5059440"/>
            <a:chExt cx="2584440" cy="1854000"/>
          </a:xfrm>
        </p:grpSpPr>
        <p:pic>
          <p:nvPicPr>
            <p:cNvPr id="418" name="Oval 23" descr=""/>
            <p:cNvPicPr/>
            <p:nvPr/>
          </p:nvPicPr>
          <p:blipFill>
            <a:blip r:embed="rId9"/>
            <a:stretch/>
          </p:blipFill>
          <p:spPr>
            <a:xfrm>
              <a:off x="4737240" y="5059440"/>
              <a:ext cx="258444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424480" y="5425920"/>
              <a:ext cx="156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Réforme des polit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24"/>
          <p:cNvSpPr/>
          <p:nvPr/>
        </p:nvSpPr>
        <p:spPr>
          <a:xfrm>
            <a:off x="2178000" y="2144160"/>
            <a:ext cx="1779480" cy="337320"/>
          </a:xfrm>
          <a:prstGeom prst="rect">
            <a:avLst/>
          </a:prstGeom>
          <a:solidFill>
            <a:srgbClr val="92d050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70c0"/>
                </a:solidFill>
                <a:latin typeface="Verdana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7"/>
          <p:cNvSpPr/>
          <p:nvPr/>
        </p:nvSpPr>
        <p:spPr>
          <a:xfrm>
            <a:off x="4572000" y="3487680"/>
            <a:ext cx="23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Verdana"/>
                <a:ea typeface="Arial"/>
              </a:rPr>
              <a:t>Erasmus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8"/>
          <p:cNvSpPr/>
          <p:nvPr/>
        </p:nvSpPr>
        <p:spPr>
          <a:xfrm>
            <a:off x="3068280" y="4449600"/>
            <a:ext cx="8420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d5ec1"/>
                </a:solidFill>
                <a:latin typeface="Verdana"/>
                <a:ea typeface="Arial"/>
              </a:rPr>
              <a:t>UE-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4867560" y="4341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  <a:ea typeface="Arial"/>
              </a:rPr>
              <a:t>Jean Mo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5146920" y="47354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  <a:ea typeface="Arial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250920" y="2133720"/>
            <a:ext cx="354492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647640" y="2540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324000" y="2133720"/>
            <a:ext cx="3633480" cy="212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6951600" y="3836880"/>
            <a:ext cx="1581120" cy="79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6702480" y="3470400"/>
            <a:ext cx="2079720" cy="1306440"/>
          </a:xfrm>
          <a:prstGeom prst="ellipse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6737400" y="36291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oopération institutio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ight Arrow 6"/>
          <p:cNvSpPr/>
          <p:nvPr/>
        </p:nvSpPr>
        <p:spPr>
          <a:xfrm>
            <a:off x="3828960" y="4027320"/>
            <a:ext cx="746280" cy="61308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007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Placeholder 2"/>
          <p:cNvSpPr/>
          <p:nvPr/>
        </p:nvSpPr>
        <p:spPr>
          <a:xfrm>
            <a:off x="498600" y="149400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2007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19640" y="1125360"/>
            <a:ext cx="3240000" cy="18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Un seul appel à propositions pour le programme en 2015</a:t>
            </a: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06/10/2014</a:t>
            </a: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AC/A04/2014 </a:t>
            </a: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34" name="Picture 14" descr=""/>
          <p:cNvPicPr/>
          <p:nvPr/>
        </p:nvPicPr>
        <p:blipFill>
          <a:blip r:embed="rId1"/>
          <a:stretch/>
        </p:blipFill>
        <p:spPr>
          <a:xfrm>
            <a:off x="-15840" y="1341360"/>
            <a:ext cx="4860720" cy="2879640"/>
          </a:xfrm>
          <a:prstGeom prst="rect">
            <a:avLst/>
          </a:prstGeom>
          <a:ln w="9360">
            <a:solidFill>
              <a:srgbClr val="72bfc5"/>
            </a:solidFill>
            <a:miter/>
          </a:ln>
        </p:spPr>
      </p:pic>
      <p:pic>
        <p:nvPicPr>
          <p:cNvPr id="435" name="Picture 15" descr=""/>
          <p:cNvPicPr/>
          <p:nvPr/>
        </p:nvPicPr>
        <p:blipFill>
          <a:blip r:embed="rId2"/>
          <a:stretch/>
        </p:blipFill>
        <p:spPr>
          <a:xfrm>
            <a:off x="5940360" y="3166920"/>
            <a:ext cx="2314800" cy="321948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395280" y="4365720"/>
            <a:ext cx="53640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mplété p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le GUIDE DU PROGRAMME ERASMUS+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Coopération internationale entre les pays membres du programme et les pays partenaires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24000" y="2565360"/>
          <a:ext cx="8424720" cy="4100400"/>
        </p:xfrm>
        <a:graphic>
          <a:graphicData uri="http://schemas.openxmlformats.org/drawingml/2006/table">
            <a:tbl>
              <a:tblPr/>
              <a:tblGrid>
                <a:gridCol w="4437000"/>
                <a:gridCol w="3987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ys membres du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ys parten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États membres de l'U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iche, Belgique, Bulgarie, Croatie, Chypre, République tchèque, Danemark, Estonie, Finlande, France, Allemagne, Grèce, Hongrie, Irlande, Lettonie, Italie, Lituanie, Luxembourg, Malte, Pays-Bas, Pologne, Portugal, Roumanie, Slovakie, Slovénie, Espagne, Suède, Royaume-U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es pays programm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slande, Liechtenstein, Norvège, Ancienne Republique yougoslave de Macedoine, Turqui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us les autres pays à travers le mo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A1A5-A80A-44FB-83F9-CCF4525047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496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 Actions princip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2590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Masters conjoint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Verdana"/>
              </a:rPr>
              <a:t>Renforcement des capacités pour l'enseignement supérieur (ex-Tempus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Activités Jean Monne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68FF-BE30-4DFE-ACCF-02EF30D0C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96360" cy="6864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7280" y="2852280"/>
            <a:ext cx="4465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F32-54F9-4CBE-B726-AC7DD926C6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études à court terme à l'étranger qui comptent pour la reconnaissance d'un diplôme dans le pays d'origin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uverture internationale d'Erasm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Volet international pour financer 135 000 bourses pour la mobilité avec les pays partenaire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bilité pour les niveaux "licence" (Bachelor), Master et doctorat - et pour le personn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543-E8F1-440A-A6D7-2C2726A1DF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3" descr=""/>
          <p:cNvPicPr/>
          <p:nvPr/>
        </p:nvPicPr>
        <p:blipFill>
          <a:blip r:embed="rId1"/>
          <a:srcRect l="-3908" t="0" r="2645" b="0"/>
          <a:stretch/>
        </p:blipFill>
        <p:spPr>
          <a:xfrm>
            <a:off x="-560520" y="17640"/>
            <a:ext cx="9825120" cy="68403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108000" y="907920"/>
            <a:ext cx="4680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asters conjoints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073-CAE1-4C07-B9DC-E9AE4AC56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05:48Z</dcterms:created>
  <dc:creator>lenain</dc:creator>
  <dc:description/>
  <dc:language>en-US</dc:language>
  <cp:lastModifiedBy>Eva Valle</cp:lastModifiedBy>
  <cp:lastPrinted>2014-04-23T13:58:44Z</cp:lastPrinted>
  <dcterms:modified xsi:type="dcterms:W3CDTF">2014-12-02T21:44:08Z</dcterms:modified>
  <cp:revision>374</cp:revision>
  <dc:subject/>
  <dc:title>Slide 1</dc:title>
</cp:coreProperties>
</file>